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094F-6638-4824-A4A5-8871D29C2D7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mind students to construct a number line to help them visualize these numbers if that is helpful to them.  In going over their responses, recap from yesterday’s lesson the definition of absolute value and why it is always a positive numb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may include counting the squares which would be acceptable.  Ask what would happen if there was no figure on the coordinate plane, but instead just coordinates.  What would be the coordinates of this figur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points on the grid connecting them to demonstrate the horizontal and vertical lines.  Lead a discussion on why using addition or subtraction might be desi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actice activity page in the folder which provides an opportunity for students to plot points constructing two figures and then finding the distances of the sides.  You could add additional coordinate sets without the coordinate grid to assure they are using the equations to solve the problems rather than counting squa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E486F-9DAA-4A41-B4A1-C4D2C5D0F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E6F81-F4EC-49B5-B4A7-E5FADA187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2679C-1312-4E42-ACD8-CB016A66D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4EA83-F000-4C60-8DA4-5D2D2FE7B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A9B52-2B1B-443E-9EA6-EF9356FCD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91320-A2AB-4148-9F70-552A4EB6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651A6-1AB6-416B-9518-47CB419E6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829B2-5445-4FFB-B8DC-D836D9A05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F1B17-0173-4559-A1BB-39D0E7579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FCD37-B4CC-409D-85A9-C68FA6A24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6012-7E6A-4D07-8FE3-1DC4F0B82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F4595-89EE-4A92-910E-A2108C3E0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01B5-2A32-4EDC-9343-2FD3621CD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952560" y="2116080"/>
                <a:ext cx="471600" cy="642960"/>
              </a:xfrm>
              <a:prstGeom prst="rect">
                <a:avLst/>
              </a:prstGeom>
            </p:spPr>
            <p:txBody>
              <a:bodyPr/>
              <a:p>
                <a14:m>
                  <m:oMath xmlns:m="http://schemas.openxmlformats.org/officeDocument/2006/math">
                    <m:d>
                      <m:dPr>
                        <m:begChr m:val="|"/>
                        <m:endChr m:val="|"/>
                      </m:dPr>
                      <m:e>
                        <m:r>
                          <m:t xml:space="preserve">3</m:t>
                        </m:r>
                      </m:e>
                    </m:d>
                  </m:oMath>
                </a14:m>
              </a:p>
            </p:txBody>
          </p:sp>
        </mc:Choice>
        <mc:Fallback/>
      </mc:AlternateContent>
      <mc:AlternateContent>
        <mc:Choice xmlns:a14="http://schemas.microsoft.com/office/drawing/2010/main" Requires="a14">
          <p:sp>
            <p:nvSpPr>
              <p:cNvPr id="51" name=""/>
              <p:cNvSpPr txBox="1"/>
              <p:nvPr/>
            </p:nvSpPr>
            <p:spPr>
              <a:xfrm>
                <a:off x="1676520" y="2120760"/>
                <a:ext cx="761760" cy="635040"/>
              </a:xfrm>
              <a:prstGeom prst="rect">
                <a:avLst/>
              </a:prstGeom>
            </p:spPr>
            <p:txBody>
              <a:bodyPr/>
              <a:p>
                <a14:m>
                  <m:oMath xmlns:m="http://schemas.openxmlformats.org/officeDocument/2006/math">
                    <m:d>
                      <m:dPr>
                        <m:begChr m:val="|"/>
                        <m:endChr m:val="|"/>
                      </m:dPr>
                      <m:e>
                        <m:r>
                          <m:t xml:space="preserve">−</m:t>
                        </m:r>
                        <m:r>
                          <m:t xml:space="preserve">6</m:t>
                        </m:r>
                      </m:e>
                    </m:d>
                  </m:oMath>
                </a14:m>
              </a:p>
            </p:txBody>
          </p:sp>
        </mc:Choice>
        <mc:Fallback/>
      </mc:AlternateContent>
      <mc:AlternateContent>
        <mc:Choice xmlns:a14="http://schemas.microsoft.com/office/drawing/2010/main" Requires="a14">
          <p:sp>
            <p:nvSpPr>
              <p:cNvPr id="52" name=""/>
              <p:cNvSpPr txBox="1"/>
              <p:nvPr/>
            </p:nvSpPr>
            <p:spPr>
              <a:xfrm>
                <a:off x="919080" y="3224160"/>
                <a:ext cx="2084400" cy="615960"/>
              </a:xfrm>
              <a:prstGeom prst="rect">
                <a:avLst/>
              </a:prstGeom>
            </p:spPr>
            <p:txBody>
              <a:bodyPr/>
              <a:p>
                <a14:m>
                  <m:oMath xmlns:m="http://schemas.openxmlformats.org/officeDocument/2006/math">
                    <m:d>
                      <m:dPr>
                        <m:begChr m:val="|"/>
                        <m:endChr m:val="|"/>
                      </m:dPr>
                      <m:e>
                        <m:r>
                          <m:t xml:space="preserve">−</m:t>
                        </m:r>
                        <m:r>
                          <m:t xml:space="preserve">6</m:t>
                        </m:r>
                      </m:e>
                    </m:d>
                    <m:d>
                      <m:dPr>
                        <m:begChr m:val="|"/>
                        <m:endChr m:val="|"/>
                      </m:dPr>
                      <m:e>
                        <m:r>
                          <m:t xml:space="preserve">−</m:t>
                        </m:r>
                        <m:r>
                          <m:rPr>
                            <m:lit/>
                            <m:nor/>
                          </m:rPr>
                          <m:t xml:space="preserve">18</m:t>
                        </m:r>
                      </m:e>
                    </m:d>
                  </m:oMath>
                </a14:m>
              </a:p>
            </p:txBody>
          </p:sp>
        </mc:Choice>
        <mc:Fallback/>
      </mc:AlternateContent>
      <mc:AlternateContent>
        <mc:Choice xmlns:a14="http://schemas.microsoft.com/office/drawing/2010/main" Requires="a14">
          <p:sp>
            <p:nvSpPr>
              <p:cNvPr id="53" name=""/>
              <p:cNvSpPr txBox="1"/>
              <p:nvPr/>
            </p:nvSpPr>
            <p:spPr>
              <a:xfrm>
                <a:off x="930240" y="4227480"/>
                <a:ext cx="2165400" cy="695520"/>
              </a:xfrm>
              <a:prstGeom prst="rect">
                <a:avLst/>
              </a:prstGeom>
            </p:spPr>
            <p:txBody>
              <a:bodyPr/>
              <a:p>
                <a14:m>
                  <m:oMath xmlns:m="http://schemas.openxmlformats.org/officeDocument/2006/math">
                    <m:d>
                      <m:dPr>
                        <m:begChr m:val="|"/>
                        <m:endChr m:val="|"/>
                      </m:dPr>
                      <m:e>
                        <m:r>
                          <m:rPr>
                            <m:lit/>
                            <m:nor/>
                          </m:rPr>
                          <m:t xml:space="preserve">12</m:t>
                        </m:r>
                      </m:e>
                    </m:d>
                    <m:d>
                      <m:dPr>
                        <m:begChr m:val="|"/>
                        <m:endChr m:val="|"/>
                      </m:dPr>
                      <m:e>
                        <m:r>
                          <m:t xml:space="preserve">−</m:t>
                        </m:r>
                        <m:r>
                          <m:rPr>
                            <m:lit/>
                            <m:nor/>
                          </m:rPr>
                          <m:t xml:space="preserve">12</m:t>
                        </m:r>
                      </m:e>
                    </m:d>
                  </m:oMath>
                </a14:m>
              </a:p>
            </p:txBody>
          </p:sp>
        </mc:Choice>
        <mc:Fallback/>
      </mc:AlternateContent>
      <p:sp>
        <p:nvSpPr>
          <p:cNvPr id="54" name=""/>
          <p:cNvSpPr/>
          <p:nvPr/>
        </p:nvSpPr>
        <p:spPr>
          <a:xfrm>
            <a:off x="1160640" y="2714760"/>
            <a:ext cx="107640" cy="196560"/>
          </a:xfrm>
          <a:custGeom>
            <a:avLst/>
            <a:gdLst/>
            <a:ahLst/>
            <a:rect l="l" t="t" r="r" b="b"/>
            <a:pathLst>
              <a:path w="298" h="546">
                <a:moveTo>
                  <a:pt x="3225" y="7714"/>
                </a:moveTo>
                <a:cubicBezTo>
                  <a:pt x="3225" y="7648"/>
                  <a:pt x="3260" y="7603"/>
                  <a:pt x="3324" y="7565"/>
                </a:cubicBezTo>
                <a:cubicBezTo>
                  <a:pt x="3374" y="7535"/>
                  <a:pt x="3420" y="7541"/>
                  <a:pt x="3473" y="7541"/>
                </a:cubicBezTo>
                <a:cubicBezTo>
                  <a:pt x="3473" y="7665"/>
                  <a:pt x="3475" y="7751"/>
                  <a:pt x="3373" y="7838"/>
                </a:cubicBezTo>
                <a:cubicBezTo>
                  <a:pt x="3365" y="7838"/>
                  <a:pt x="3357" y="7838"/>
                  <a:pt x="3349" y="7838"/>
                </a:cubicBezTo>
                <a:cubicBezTo>
                  <a:pt x="3302" y="7792"/>
                  <a:pt x="3386" y="7777"/>
                  <a:pt x="3448" y="7739"/>
                </a:cubicBezTo>
                <a:cubicBezTo>
                  <a:pt x="3513" y="7824"/>
                  <a:pt x="3580" y="7943"/>
                  <a:pt x="3473" y="8037"/>
                </a:cubicBezTo>
                <a:cubicBezTo>
                  <a:pt x="3396" y="8105"/>
                  <a:pt x="3326" y="8094"/>
                  <a:pt x="3249" y="80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55840" y="2732040"/>
            <a:ext cx="214200" cy="196920"/>
          </a:xfrm>
          <a:custGeom>
            <a:avLst/>
            <a:gdLst/>
            <a:ahLst/>
            <a:rect l="l" t="t" r="r" b="b"/>
            <a:pathLst>
              <a:path w="596" h="547">
                <a:moveTo>
                  <a:pt x="4564" y="7640"/>
                </a:moveTo>
                <a:cubicBezTo>
                  <a:pt x="4564" y="7612"/>
                  <a:pt x="4566" y="7601"/>
                  <a:pt x="4589" y="7590"/>
                </a:cubicBezTo>
                <a:cubicBezTo>
                  <a:pt x="4470" y="7662"/>
                  <a:pt x="4428" y="7762"/>
                  <a:pt x="4266" y="7813"/>
                </a:cubicBezTo>
                <a:cubicBezTo>
                  <a:pt x="4203" y="7833"/>
                  <a:pt x="4110" y="7852"/>
                  <a:pt x="4043" y="7863"/>
                </a:cubicBezTo>
                <a:cubicBezTo>
                  <a:pt x="4143" y="7943"/>
                  <a:pt x="4272" y="7967"/>
                  <a:pt x="4390" y="8012"/>
                </a:cubicBezTo>
                <a:cubicBezTo>
                  <a:pt x="4470" y="8042"/>
                  <a:pt x="4582" y="8117"/>
                  <a:pt x="4638" y="81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982880" y="2687760"/>
            <a:ext cx="187200" cy="214200"/>
          </a:xfrm>
          <a:custGeom>
            <a:avLst/>
            <a:gdLst/>
            <a:ahLst/>
            <a:rect l="l" t="t" r="r" b="b"/>
            <a:pathLst>
              <a:path w="522" h="597">
                <a:moveTo>
                  <a:pt x="5655" y="7466"/>
                </a:moveTo>
                <a:cubicBezTo>
                  <a:pt x="5634" y="7577"/>
                  <a:pt x="5563" y="7679"/>
                  <a:pt x="5531" y="7789"/>
                </a:cubicBezTo>
                <a:cubicBezTo>
                  <a:pt x="5502" y="7889"/>
                  <a:pt x="5475" y="7988"/>
                  <a:pt x="5581" y="8037"/>
                </a:cubicBezTo>
                <a:cubicBezTo>
                  <a:pt x="5667" y="8077"/>
                  <a:pt x="5845" y="8031"/>
                  <a:pt x="5928" y="7987"/>
                </a:cubicBezTo>
                <a:cubicBezTo>
                  <a:pt x="5993" y="7952"/>
                  <a:pt x="6022" y="7880"/>
                  <a:pt x="6028" y="7813"/>
                </a:cubicBezTo>
                <a:cubicBezTo>
                  <a:pt x="6028" y="7805"/>
                  <a:pt x="6028" y="7797"/>
                  <a:pt x="6028" y="7789"/>
                </a:cubicBezTo>
                <a:cubicBezTo>
                  <a:pt x="5978" y="7759"/>
                  <a:pt x="5893" y="7747"/>
                  <a:pt x="5829" y="7764"/>
                </a:cubicBezTo>
                <a:cubicBezTo>
                  <a:pt x="5727" y="7791"/>
                  <a:pt x="5755" y="7931"/>
                  <a:pt x="5755" y="8012"/>
                </a:cubicBezTo>
                <a:cubicBezTo>
                  <a:pt x="5755" y="8020"/>
                  <a:pt x="5755" y="8029"/>
                  <a:pt x="5755" y="803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268280" y="3813120"/>
            <a:ext cx="214560" cy="169920"/>
          </a:xfrm>
          <a:custGeom>
            <a:avLst/>
            <a:gdLst/>
            <a:ahLst/>
            <a:rect l="l" t="t" r="r" b="b"/>
            <a:pathLst>
              <a:path w="597" h="472">
                <a:moveTo>
                  <a:pt x="3621" y="10616"/>
                </a:moveTo>
                <a:cubicBezTo>
                  <a:pt x="3588" y="10585"/>
                  <a:pt x="3561" y="10811"/>
                  <a:pt x="3547" y="10864"/>
                </a:cubicBezTo>
                <a:cubicBezTo>
                  <a:pt x="3506" y="11018"/>
                  <a:pt x="3608" y="11055"/>
                  <a:pt x="3746" y="11063"/>
                </a:cubicBezTo>
                <a:cubicBezTo>
                  <a:pt x="3827" y="11068"/>
                  <a:pt x="4014" y="11060"/>
                  <a:pt x="4068" y="10988"/>
                </a:cubicBezTo>
                <a:cubicBezTo>
                  <a:pt x="4095" y="10952"/>
                  <a:pt x="4114" y="10849"/>
                  <a:pt x="4093" y="10815"/>
                </a:cubicBezTo>
                <a:cubicBezTo>
                  <a:pt x="4058" y="10761"/>
                  <a:pt x="3967" y="10742"/>
                  <a:pt x="3919" y="10790"/>
                </a:cubicBezTo>
                <a:cubicBezTo>
                  <a:pt x="3837" y="10872"/>
                  <a:pt x="3846" y="10950"/>
                  <a:pt x="3870" y="11038"/>
                </a:cubicBezTo>
                <a:cubicBezTo>
                  <a:pt x="3870" y="11063"/>
                  <a:pt x="3870" y="11071"/>
                  <a:pt x="3894" y="1106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785960" y="3848040"/>
            <a:ext cx="223920" cy="162000"/>
          </a:xfrm>
          <a:custGeom>
            <a:avLst/>
            <a:gdLst/>
            <a:ahLst/>
            <a:rect l="l" t="t" r="r" b="b"/>
            <a:pathLst>
              <a:path w="621" h="447">
                <a:moveTo>
                  <a:pt x="5457" y="10691"/>
                </a:moveTo>
                <a:cubicBezTo>
                  <a:pt x="5340" y="10762"/>
                  <a:pt x="5240" y="10802"/>
                  <a:pt x="5110" y="10840"/>
                </a:cubicBezTo>
                <a:cubicBezTo>
                  <a:pt x="5035" y="10864"/>
                  <a:pt x="5010" y="10872"/>
                  <a:pt x="4961" y="10889"/>
                </a:cubicBezTo>
                <a:cubicBezTo>
                  <a:pt x="5050" y="10929"/>
                  <a:pt x="5146" y="10980"/>
                  <a:pt x="5234" y="11013"/>
                </a:cubicBezTo>
                <a:cubicBezTo>
                  <a:pt x="5308" y="11041"/>
                  <a:pt x="5415" y="11049"/>
                  <a:pt x="5482" y="11088"/>
                </a:cubicBezTo>
                <a:cubicBezTo>
                  <a:pt x="5513" y="11106"/>
                  <a:pt x="5558" y="11084"/>
                  <a:pt x="5581" y="11112"/>
                </a:cubicBezTo>
                <a:cubicBezTo>
                  <a:pt x="5581" y="11120"/>
                  <a:pt x="5581" y="11129"/>
                  <a:pt x="5581" y="1113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28920" y="3813120"/>
            <a:ext cx="223920" cy="179280"/>
          </a:xfrm>
          <a:custGeom>
            <a:avLst/>
            <a:gdLst/>
            <a:ahLst/>
            <a:rect l="l" t="t" r="r" b="b"/>
            <a:pathLst>
              <a:path w="621" h="497">
                <a:moveTo>
                  <a:pt x="6747" y="10641"/>
                </a:moveTo>
                <a:cubicBezTo>
                  <a:pt x="6764" y="10760"/>
                  <a:pt x="6809" y="10869"/>
                  <a:pt x="6821" y="10988"/>
                </a:cubicBezTo>
                <a:cubicBezTo>
                  <a:pt x="6821" y="10996"/>
                  <a:pt x="6821" y="11005"/>
                  <a:pt x="6821" y="11013"/>
                </a:cubicBezTo>
              </a:path>
              <a:path w="621" h="497">
                <a:moveTo>
                  <a:pt x="7367" y="10616"/>
                </a:moveTo>
                <a:cubicBezTo>
                  <a:pt x="7308" y="10587"/>
                  <a:pt x="7215" y="10617"/>
                  <a:pt x="7144" y="10666"/>
                </a:cubicBezTo>
                <a:cubicBezTo>
                  <a:pt x="7098" y="10712"/>
                  <a:pt x="7083" y="10724"/>
                  <a:pt x="7069" y="10765"/>
                </a:cubicBezTo>
                <a:cubicBezTo>
                  <a:pt x="7157" y="10853"/>
                  <a:pt x="7249" y="10935"/>
                  <a:pt x="7317" y="11038"/>
                </a:cubicBezTo>
                <a:cubicBezTo>
                  <a:pt x="7282" y="11080"/>
                  <a:pt x="7194" y="11143"/>
                  <a:pt x="7169" y="11038"/>
                </a:cubicBezTo>
                <a:cubicBezTo>
                  <a:pt x="7140" y="10914"/>
                  <a:pt x="7272" y="10801"/>
                  <a:pt x="7342" y="10716"/>
                </a:cubicBezTo>
                <a:cubicBezTo>
                  <a:pt x="7365" y="10693"/>
                  <a:pt x="7373" y="10689"/>
                  <a:pt x="7367" y="106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82880" y="3848040"/>
            <a:ext cx="9360" cy="9720"/>
          </a:xfrm>
          <a:custGeom>
            <a:avLst/>
            <a:gdLst/>
            <a:ahLst/>
            <a:rect l="l" t="t" r="r" b="b"/>
            <a:pathLst>
              <a:path w="25" h="26">
                <a:moveTo>
                  <a:pt x="5507" y="10716"/>
                </a:moveTo>
                <a:cubicBezTo>
                  <a:pt x="5507" y="10691"/>
                  <a:pt x="5507" y="10683"/>
                  <a:pt x="5531" y="10691"/>
                </a:cubicBezTo>
              </a:path>
              <a:path w="25" h="26">
                <a:moveTo>
                  <a:pt x="5507" y="10691"/>
                </a:moveTo>
                <a:lnTo>
                  <a:pt x="5507" y="10691"/>
                </a:lnTo>
              </a:path>
            </a:pathLst>
          </a:custGeom>
          <a:noFill/>
          <a:ln cap="rnd" w="349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1" name=""/>
          <p:cNvSpPr/>
          <p:nvPr/>
        </p:nvSpPr>
        <p:spPr>
          <a:xfrm>
            <a:off x="1197000" y="5062680"/>
            <a:ext cx="17280" cy="233280"/>
          </a:xfrm>
          <a:custGeom>
            <a:avLst/>
            <a:gdLst/>
            <a:ahLst/>
            <a:rect l="l" t="t" r="r" b="b"/>
            <a:pathLst>
              <a:path w="50" h="646">
                <a:moveTo>
                  <a:pt x="3324" y="14064"/>
                </a:moveTo>
                <a:cubicBezTo>
                  <a:pt x="3383" y="14241"/>
                  <a:pt x="3356" y="14425"/>
                  <a:pt x="3349" y="14610"/>
                </a:cubicBezTo>
                <a:cubicBezTo>
                  <a:pt x="3349" y="14684"/>
                  <a:pt x="3349" y="14742"/>
                  <a:pt x="3349" y="14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357200" y="5037120"/>
            <a:ext cx="152640" cy="214200"/>
          </a:xfrm>
          <a:custGeom>
            <a:avLst/>
            <a:gdLst/>
            <a:ahLst/>
            <a:rect l="l" t="t" r="r" b="b"/>
            <a:pathLst>
              <a:path w="423" h="596">
                <a:moveTo>
                  <a:pt x="3770" y="14039"/>
                </a:moveTo>
                <a:cubicBezTo>
                  <a:pt x="3865" y="14039"/>
                  <a:pt x="3981" y="13936"/>
                  <a:pt x="4068" y="14015"/>
                </a:cubicBezTo>
                <a:cubicBezTo>
                  <a:pt x="4206" y="14140"/>
                  <a:pt x="3857" y="14467"/>
                  <a:pt x="3795" y="14560"/>
                </a:cubicBezTo>
                <a:cubicBezTo>
                  <a:pt x="3795" y="14568"/>
                  <a:pt x="3795" y="14577"/>
                  <a:pt x="3795" y="14585"/>
                </a:cubicBezTo>
                <a:cubicBezTo>
                  <a:pt x="3911" y="14578"/>
                  <a:pt x="4089" y="14501"/>
                  <a:pt x="4192" y="14511"/>
                </a:cubicBezTo>
                <a:cubicBezTo>
                  <a:pt x="4192" y="14519"/>
                  <a:pt x="4192" y="14528"/>
                  <a:pt x="4192" y="145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866960" y="5072040"/>
            <a:ext cx="177840" cy="125280"/>
          </a:xfrm>
          <a:custGeom>
            <a:avLst/>
            <a:gdLst/>
            <a:ahLst/>
            <a:rect l="l" t="t" r="r" b="b"/>
            <a:pathLst>
              <a:path w="497" h="348">
                <a:moveTo>
                  <a:pt x="5184" y="14089"/>
                </a:moveTo>
                <a:cubicBezTo>
                  <a:pt x="5295" y="14089"/>
                  <a:pt x="5397" y="14106"/>
                  <a:pt x="5507" y="14114"/>
                </a:cubicBezTo>
                <a:cubicBezTo>
                  <a:pt x="5704" y="14128"/>
                  <a:pt x="5547" y="14111"/>
                  <a:pt x="5631" y="14139"/>
                </a:cubicBezTo>
              </a:path>
              <a:path w="497" h="348">
                <a:moveTo>
                  <a:pt x="5259" y="14387"/>
                </a:moveTo>
                <a:cubicBezTo>
                  <a:pt x="5396" y="14419"/>
                  <a:pt x="5514" y="14436"/>
                  <a:pt x="5655" y="14436"/>
                </a:cubicBezTo>
                <a:cubicBezTo>
                  <a:pt x="5663" y="14436"/>
                  <a:pt x="5672" y="14436"/>
                  <a:pt x="5680" y="144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367000" y="4964040"/>
            <a:ext cx="268200" cy="223920"/>
          </a:xfrm>
          <a:custGeom>
            <a:avLst/>
            <a:gdLst/>
            <a:ahLst/>
            <a:rect l="l" t="t" r="r" b="b"/>
            <a:pathLst>
              <a:path w="745" h="622">
                <a:moveTo>
                  <a:pt x="6573" y="13841"/>
                </a:moveTo>
                <a:cubicBezTo>
                  <a:pt x="6573" y="14027"/>
                  <a:pt x="6569" y="14207"/>
                  <a:pt x="6598" y="14387"/>
                </a:cubicBezTo>
                <a:cubicBezTo>
                  <a:pt x="6598" y="14420"/>
                  <a:pt x="6598" y="14420"/>
                  <a:pt x="6598" y="14362"/>
                </a:cubicBezTo>
              </a:path>
              <a:path w="745" h="622">
                <a:moveTo>
                  <a:pt x="6945" y="13866"/>
                </a:moveTo>
                <a:cubicBezTo>
                  <a:pt x="7017" y="13776"/>
                  <a:pt x="7084" y="13783"/>
                  <a:pt x="7193" y="13816"/>
                </a:cubicBezTo>
                <a:cubicBezTo>
                  <a:pt x="7166" y="14023"/>
                  <a:pt x="7072" y="14125"/>
                  <a:pt x="6945" y="14288"/>
                </a:cubicBezTo>
                <a:cubicBezTo>
                  <a:pt x="7055" y="14280"/>
                  <a:pt x="7224" y="14260"/>
                  <a:pt x="7317" y="14213"/>
                </a:cubicBezTo>
                <a:cubicBezTo>
                  <a:pt x="7317" y="14188"/>
                  <a:pt x="7317" y="14180"/>
                  <a:pt x="7317" y="142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find the distance between two points on a coordinate pla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find the length of a side of a polygon on a coordinate pla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
          <p:cNvGraphicFramePr/>
          <p:nvPr/>
        </p:nvGraphicFramePr>
        <p:xfrm>
          <a:off x="4495680" y="990720"/>
          <a:ext cx="4038840" cy="5555880"/>
        </p:xfrm>
        <a:graphic>
          <a:graphicData uri="http://schemas.openxmlformats.org/drawingml/2006/table">
            <a:tbl>
              <a:tblPr/>
              <a:tblGrid>
                <a:gridCol w="403200"/>
                <a:gridCol w="435240"/>
                <a:gridCol w="372960"/>
                <a:gridCol w="404640"/>
                <a:gridCol w="365400"/>
                <a:gridCol w="441360"/>
                <a:gridCol w="404640"/>
                <a:gridCol w="403200"/>
                <a:gridCol w="405000"/>
                <a:gridCol w="403200"/>
              </a:tblGrid>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4495680" y="3733920"/>
            <a:ext cx="403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477120" y="114300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477120" y="990720"/>
            <a:ext cx="0" cy="5638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34120" y="2057400"/>
            <a:ext cx="19810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572080" y="3187800"/>
            <a:ext cx="1758960" cy="723960"/>
          </a:xfrm>
          <a:custGeom>
            <a:avLst/>
            <a:gdLst/>
            <a:ahLst/>
            <a:rect l="l" t="t" r="r" b="b"/>
            <a:pathLst>
              <a:path w="4888" h="2010">
                <a:moveTo>
                  <a:pt x="15478" y="10691"/>
                </a:moveTo>
                <a:cubicBezTo>
                  <a:pt x="15546" y="10683"/>
                  <a:pt x="15608" y="10672"/>
                  <a:pt x="15677" y="10666"/>
                </a:cubicBezTo>
              </a:path>
              <a:path w="4888" h="2010">
                <a:moveTo>
                  <a:pt x="15652" y="10492"/>
                </a:moveTo>
                <a:cubicBezTo>
                  <a:pt x="15713" y="10615"/>
                  <a:pt x="15714" y="10654"/>
                  <a:pt x="15850" y="10666"/>
                </a:cubicBezTo>
              </a:path>
              <a:path w="4888" h="2010">
                <a:moveTo>
                  <a:pt x="15925" y="10418"/>
                </a:moveTo>
                <a:cubicBezTo>
                  <a:pt x="15932" y="10569"/>
                  <a:pt x="15960" y="10714"/>
                  <a:pt x="15974" y="10864"/>
                </a:cubicBezTo>
              </a:path>
              <a:path w="4888" h="2010">
                <a:moveTo>
                  <a:pt x="20340" y="8855"/>
                </a:moveTo>
                <a:lnTo>
                  <a:pt x="20340" y="8855"/>
                </a:lnTo>
              </a:path>
              <a:path w="4888" h="2010">
                <a:moveTo>
                  <a:pt x="20365" y="8855"/>
                </a:moveTo>
                <a:lnTo>
                  <a:pt x="20365" y="8855"/>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276880" y="3160800"/>
            <a:ext cx="81000" cy="90360"/>
          </a:xfrm>
          <a:custGeom>
            <a:avLst/>
            <a:gdLst/>
            <a:ahLst/>
            <a:rect l="l" t="t" r="r" b="b"/>
            <a:pathLst>
              <a:path w="224" h="249">
                <a:moveTo>
                  <a:pt x="14883" y="8954"/>
                </a:moveTo>
                <a:cubicBezTo>
                  <a:pt x="14871" y="8930"/>
                  <a:pt x="14805" y="8859"/>
                  <a:pt x="14759" y="8880"/>
                </a:cubicBezTo>
                <a:cubicBezTo>
                  <a:pt x="14674" y="8918"/>
                  <a:pt x="14673" y="8948"/>
                  <a:pt x="14660" y="9029"/>
                </a:cubicBezTo>
                <a:cubicBezTo>
                  <a:pt x="14802" y="8976"/>
                  <a:pt x="14859" y="8969"/>
                  <a:pt x="14883" y="8806"/>
                </a:cubicBezTo>
                <a:cubicBezTo>
                  <a:pt x="14833" y="8806"/>
                  <a:pt x="14602" y="8881"/>
                  <a:pt x="14734" y="8979"/>
                </a:cubicBezTo>
                <a:cubicBezTo>
                  <a:pt x="14802" y="8979"/>
                  <a:pt x="14832" y="8966"/>
                  <a:pt x="14858" y="8905"/>
                </a:cubicBezTo>
                <a:cubicBezTo>
                  <a:pt x="14897" y="8827"/>
                  <a:pt x="14826" y="8867"/>
                  <a:pt x="14808" y="8930"/>
                </a:cubicBezTo>
              </a:path>
            </a:pathLst>
          </a:custGeom>
          <a:noFill/>
          <a:ln cap="rnd" w="349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 name=""/>
          <p:cNvSpPr/>
          <p:nvPr/>
        </p:nvSpPr>
        <p:spPr>
          <a:xfrm>
            <a:off x="7269120" y="3178080"/>
            <a:ext cx="88920" cy="73080"/>
          </a:xfrm>
          <a:custGeom>
            <a:avLst/>
            <a:gdLst/>
            <a:ahLst/>
            <a:rect l="l" t="t" r="r" b="b"/>
            <a:pathLst>
              <a:path w="249" h="200">
                <a:moveTo>
                  <a:pt x="20439" y="8930"/>
                </a:moveTo>
                <a:cubicBezTo>
                  <a:pt x="20390" y="8889"/>
                  <a:pt x="20287" y="8779"/>
                  <a:pt x="20216" y="8855"/>
                </a:cubicBezTo>
                <a:cubicBezTo>
                  <a:pt x="20192" y="8928"/>
                  <a:pt x="20183" y="8952"/>
                  <a:pt x="20191" y="9004"/>
                </a:cubicBezTo>
                <a:cubicBezTo>
                  <a:pt x="20302" y="9032"/>
                  <a:pt x="20417" y="9046"/>
                  <a:pt x="20389" y="8880"/>
                </a:cubicBezTo>
                <a:cubicBezTo>
                  <a:pt x="20378" y="8816"/>
                  <a:pt x="20241" y="8910"/>
                  <a:pt x="20241" y="8954"/>
                </a:cubicBezTo>
                <a:cubicBezTo>
                  <a:pt x="20241" y="8996"/>
                  <a:pt x="20401" y="8965"/>
                  <a:pt x="20340" y="8905"/>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 name=""/>
          <p:cNvSpPr/>
          <p:nvPr/>
        </p:nvSpPr>
        <p:spPr>
          <a:xfrm>
            <a:off x="5348160" y="3214800"/>
            <a:ext cx="1938600" cy="125280"/>
          </a:xfrm>
          <a:custGeom>
            <a:avLst/>
            <a:gdLst/>
            <a:ahLst/>
            <a:rect l="l" t="t" r="r" b="b"/>
            <a:pathLst>
              <a:path w="5384" h="348">
                <a:moveTo>
                  <a:pt x="20216" y="8930"/>
                </a:moveTo>
                <a:cubicBezTo>
                  <a:pt x="20126" y="9000"/>
                  <a:pt x="20080" y="9059"/>
                  <a:pt x="19968" y="9079"/>
                </a:cubicBezTo>
                <a:cubicBezTo>
                  <a:pt x="19797" y="9109"/>
                  <a:pt x="19624" y="9074"/>
                  <a:pt x="19472" y="9004"/>
                </a:cubicBezTo>
                <a:cubicBezTo>
                  <a:pt x="19421" y="8980"/>
                  <a:pt x="19399" y="8907"/>
                  <a:pt x="19348" y="8930"/>
                </a:cubicBezTo>
                <a:cubicBezTo>
                  <a:pt x="19284" y="8959"/>
                  <a:pt x="19319" y="8972"/>
                  <a:pt x="19224" y="9054"/>
                </a:cubicBezTo>
                <a:cubicBezTo>
                  <a:pt x="19074" y="9184"/>
                  <a:pt x="18917" y="9210"/>
                  <a:pt x="18728" y="9178"/>
                </a:cubicBezTo>
                <a:cubicBezTo>
                  <a:pt x="18561" y="9149"/>
                  <a:pt x="18392" y="9097"/>
                  <a:pt x="18231" y="9054"/>
                </a:cubicBezTo>
                <a:cubicBezTo>
                  <a:pt x="18212" y="9049"/>
                  <a:pt x="18121" y="9003"/>
                  <a:pt x="18107" y="9004"/>
                </a:cubicBezTo>
                <a:cubicBezTo>
                  <a:pt x="17955" y="9011"/>
                  <a:pt x="17782" y="9202"/>
                  <a:pt x="17611" y="9227"/>
                </a:cubicBezTo>
                <a:cubicBezTo>
                  <a:pt x="17477" y="9247"/>
                  <a:pt x="17355" y="9215"/>
                  <a:pt x="17239" y="9153"/>
                </a:cubicBezTo>
                <a:cubicBezTo>
                  <a:pt x="17185" y="9124"/>
                  <a:pt x="17154" y="9060"/>
                  <a:pt x="17090" y="9054"/>
                </a:cubicBezTo>
                <a:cubicBezTo>
                  <a:pt x="17017" y="9047"/>
                  <a:pt x="16996" y="9090"/>
                  <a:pt x="16892" y="9153"/>
                </a:cubicBezTo>
                <a:cubicBezTo>
                  <a:pt x="16705" y="9265"/>
                  <a:pt x="16593" y="9199"/>
                  <a:pt x="16396" y="9178"/>
                </a:cubicBezTo>
                <a:cubicBezTo>
                  <a:pt x="16288" y="9166"/>
                  <a:pt x="16181" y="9167"/>
                  <a:pt x="16073" y="9153"/>
                </a:cubicBezTo>
                <a:cubicBezTo>
                  <a:pt x="16030" y="9147"/>
                  <a:pt x="16016" y="9091"/>
                  <a:pt x="15974" y="9103"/>
                </a:cubicBezTo>
                <a:cubicBezTo>
                  <a:pt x="15869" y="9134"/>
                  <a:pt x="15815" y="9215"/>
                  <a:pt x="15701" y="9252"/>
                </a:cubicBezTo>
                <a:cubicBezTo>
                  <a:pt x="15522" y="9310"/>
                  <a:pt x="15372" y="9182"/>
                  <a:pt x="15205" y="9128"/>
                </a:cubicBezTo>
                <a:cubicBezTo>
                  <a:pt x="15126" y="9102"/>
                  <a:pt x="15028" y="9074"/>
                  <a:pt x="14957" y="9054"/>
                </a:cubicBezTo>
                <a:cubicBezTo>
                  <a:pt x="14912" y="9041"/>
                  <a:pt x="14875" y="9013"/>
                  <a:pt x="14858" y="90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3080" y="3759120"/>
            <a:ext cx="123840" cy="169920"/>
          </a:xfrm>
          <a:custGeom>
            <a:avLst/>
            <a:gdLst/>
            <a:ahLst/>
            <a:rect l="l" t="t" r="r" b="b"/>
            <a:pathLst>
              <a:path w="348" h="472">
                <a:moveTo>
                  <a:pt x="19000" y="10517"/>
                </a:moveTo>
                <a:cubicBezTo>
                  <a:pt x="19044" y="10483"/>
                  <a:pt x="19092" y="10447"/>
                  <a:pt x="19149" y="10443"/>
                </a:cubicBezTo>
                <a:cubicBezTo>
                  <a:pt x="19255" y="10436"/>
                  <a:pt x="19219" y="10578"/>
                  <a:pt x="19174" y="10641"/>
                </a:cubicBezTo>
                <a:cubicBezTo>
                  <a:pt x="19117" y="10721"/>
                  <a:pt x="18996" y="10799"/>
                  <a:pt x="18951" y="10889"/>
                </a:cubicBezTo>
                <a:cubicBezTo>
                  <a:pt x="18951" y="10897"/>
                  <a:pt x="18951" y="10906"/>
                  <a:pt x="18951" y="10914"/>
                </a:cubicBezTo>
                <a:cubicBezTo>
                  <a:pt x="19060" y="10886"/>
                  <a:pt x="19169" y="10830"/>
                  <a:pt x="19273" y="10815"/>
                </a:cubicBezTo>
                <a:cubicBezTo>
                  <a:pt x="19281" y="10815"/>
                  <a:pt x="19290" y="10815"/>
                  <a:pt x="19298" y="108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215120" y="3768840"/>
            <a:ext cx="115920" cy="81000"/>
          </a:xfrm>
          <a:custGeom>
            <a:avLst/>
            <a:gdLst/>
            <a:ahLst/>
            <a:rect l="l" t="t" r="r" b="b"/>
            <a:pathLst>
              <a:path w="324" h="224">
                <a:moveTo>
                  <a:pt x="20067" y="10468"/>
                </a:moveTo>
                <a:cubicBezTo>
                  <a:pt x="20067" y="10538"/>
                  <a:pt x="20050" y="10598"/>
                  <a:pt x="20042" y="10666"/>
                </a:cubicBezTo>
                <a:cubicBezTo>
                  <a:pt x="20154" y="10708"/>
                  <a:pt x="20249" y="10683"/>
                  <a:pt x="20365" y="10641"/>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 name=""/>
          <p:cNvSpPr/>
          <p:nvPr/>
        </p:nvSpPr>
        <p:spPr>
          <a:xfrm>
            <a:off x="7323120" y="3724200"/>
            <a:ext cx="7920" cy="214560"/>
          </a:xfrm>
          <a:custGeom>
            <a:avLst/>
            <a:gdLst/>
            <a:ahLst/>
            <a:rect l="l" t="t" r="r" b="b"/>
            <a:pathLst>
              <a:path w="26" h="596">
                <a:moveTo>
                  <a:pt x="20365" y="10344"/>
                </a:moveTo>
                <a:cubicBezTo>
                  <a:pt x="20340" y="10519"/>
                  <a:pt x="20340" y="10687"/>
                  <a:pt x="20340" y="10864"/>
                </a:cubicBezTo>
                <a:cubicBezTo>
                  <a:pt x="20340" y="10889"/>
                  <a:pt x="20340" y="10914"/>
                  <a:pt x="20340" y="109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929200" y="3821040"/>
            <a:ext cx="71640" cy="36720"/>
          </a:xfrm>
          <a:custGeom>
            <a:avLst/>
            <a:gdLst/>
            <a:ahLst/>
            <a:rect l="l" t="t" r="r" b="b"/>
            <a:pathLst>
              <a:path w="200" h="101">
                <a:moveTo>
                  <a:pt x="16470" y="10716"/>
                </a:moveTo>
                <a:cubicBezTo>
                  <a:pt x="16534" y="10695"/>
                  <a:pt x="16607" y="10650"/>
                  <a:pt x="16669" y="10616"/>
                </a:cubicBezTo>
              </a:path>
            </a:pathLst>
          </a:custGeom>
          <a:noFill/>
          <a:ln cap="rnd" w="3492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2" name=""/>
          <p:cNvSpPr/>
          <p:nvPr/>
        </p:nvSpPr>
        <p:spPr>
          <a:xfrm>
            <a:off x="6062760" y="3741840"/>
            <a:ext cx="135000" cy="142920"/>
          </a:xfrm>
          <a:custGeom>
            <a:avLst/>
            <a:gdLst/>
            <a:ahLst/>
            <a:rect l="l" t="t" r="r" b="b"/>
            <a:pathLst>
              <a:path w="373" h="398">
                <a:moveTo>
                  <a:pt x="16842" y="10418"/>
                </a:moveTo>
                <a:cubicBezTo>
                  <a:pt x="16949" y="10396"/>
                  <a:pt x="16973" y="10388"/>
                  <a:pt x="17041" y="10393"/>
                </a:cubicBezTo>
                <a:cubicBezTo>
                  <a:pt x="17024" y="10532"/>
                  <a:pt x="16992" y="10644"/>
                  <a:pt x="16917" y="10765"/>
                </a:cubicBezTo>
                <a:cubicBezTo>
                  <a:pt x="17044" y="10791"/>
                  <a:pt x="17091" y="10738"/>
                  <a:pt x="17214" y="106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116680" y="3830760"/>
            <a:ext cx="134640" cy="54000"/>
          </a:xfrm>
          <a:custGeom>
            <a:avLst/>
            <a:gdLst/>
            <a:ahLst/>
            <a:rect l="l" t="t" r="r" b="b"/>
            <a:pathLst>
              <a:path w="373" h="150">
                <a:moveTo>
                  <a:pt x="14213" y="10790"/>
                </a:moveTo>
                <a:cubicBezTo>
                  <a:pt x="14336" y="10735"/>
                  <a:pt x="14459" y="10689"/>
                  <a:pt x="14585" y="10641"/>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4" name=""/>
          <p:cNvSpPr/>
          <p:nvPr/>
        </p:nvSpPr>
        <p:spPr>
          <a:xfrm>
            <a:off x="5286240" y="3714840"/>
            <a:ext cx="142920" cy="196920"/>
          </a:xfrm>
          <a:custGeom>
            <a:avLst/>
            <a:gdLst/>
            <a:ahLst/>
            <a:rect l="l" t="t" r="r" b="b"/>
            <a:pathLst>
              <a:path w="398" h="546">
                <a:moveTo>
                  <a:pt x="14684" y="10319"/>
                </a:moveTo>
                <a:cubicBezTo>
                  <a:pt x="14692" y="10438"/>
                  <a:pt x="14698" y="10731"/>
                  <a:pt x="14858" y="10765"/>
                </a:cubicBezTo>
                <a:cubicBezTo>
                  <a:pt x="15069" y="10810"/>
                  <a:pt x="15060" y="10591"/>
                  <a:pt x="15007" y="10492"/>
                </a:cubicBezTo>
                <a:cubicBezTo>
                  <a:pt x="14910" y="10590"/>
                  <a:pt x="14840" y="10712"/>
                  <a:pt x="14957" y="10840"/>
                </a:cubicBezTo>
                <a:cubicBezTo>
                  <a:pt x="14982" y="10848"/>
                  <a:pt x="15007" y="10856"/>
                  <a:pt x="15032" y="108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69120" y="3178080"/>
            <a:ext cx="61920" cy="54000"/>
          </a:xfrm>
          <a:custGeom>
            <a:avLst/>
            <a:gdLst/>
            <a:ahLst/>
            <a:rect l="l" t="t" r="r" b="b"/>
            <a:pathLst>
              <a:path w="175" h="150">
                <a:moveTo>
                  <a:pt x="20315" y="8905"/>
                </a:moveTo>
                <a:cubicBezTo>
                  <a:pt x="20351" y="8798"/>
                  <a:pt x="20305" y="9036"/>
                  <a:pt x="20340" y="8880"/>
                </a:cubicBezTo>
                <a:cubicBezTo>
                  <a:pt x="20364" y="8772"/>
                  <a:pt x="20275" y="8892"/>
                  <a:pt x="20265" y="8905"/>
                </a:cubicBezTo>
                <a:cubicBezTo>
                  <a:pt x="20237" y="8944"/>
                  <a:pt x="20248" y="8924"/>
                  <a:pt x="20290" y="8954"/>
                </a:cubicBezTo>
                <a:cubicBezTo>
                  <a:pt x="20337" y="8908"/>
                  <a:pt x="20351" y="8896"/>
                  <a:pt x="20365" y="8855"/>
                </a:cubicBezTo>
                <a:cubicBezTo>
                  <a:pt x="20275" y="8832"/>
                  <a:pt x="20289" y="8833"/>
                  <a:pt x="20241" y="8930"/>
                </a:cubicBezTo>
                <a:cubicBezTo>
                  <a:pt x="20178" y="9057"/>
                  <a:pt x="20349" y="8940"/>
                  <a:pt x="20340" y="8855"/>
                </a:cubicBezTo>
                <a:cubicBezTo>
                  <a:pt x="20305" y="8855"/>
                  <a:pt x="20287" y="8860"/>
                  <a:pt x="20265" y="8880"/>
                </a:cubicBezTo>
                <a:cubicBezTo>
                  <a:pt x="20187" y="8991"/>
                  <a:pt x="20199" y="9020"/>
                  <a:pt x="20290" y="8930"/>
                </a:cubicBezTo>
                <a:cubicBezTo>
                  <a:pt x="20374" y="8847"/>
                  <a:pt x="20233" y="8961"/>
                  <a:pt x="20265" y="8954"/>
                </a:cubicBezTo>
                <a:cubicBezTo>
                  <a:pt x="20327" y="8940"/>
                  <a:pt x="20289" y="8901"/>
                  <a:pt x="20315" y="8880"/>
                </a:cubicBezTo>
                <a:cubicBezTo>
                  <a:pt x="20323" y="8880"/>
                  <a:pt x="20332" y="8880"/>
                  <a:pt x="20340" y="8880"/>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7232760" y="4241880"/>
            <a:ext cx="135000" cy="98280"/>
          </a:xfrm>
          <a:custGeom>
            <a:avLst/>
            <a:gdLst/>
            <a:ahLst/>
            <a:rect l="l" t="t" r="r" b="b"/>
            <a:pathLst>
              <a:path w="373" h="274">
                <a:moveTo>
                  <a:pt x="20191" y="11782"/>
                </a:moveTo>
                <a:cubicBezTo>
                  <a:pt x="20126" y="11831"/>
                  <a:pt x="20118" y="11963"/>
                  <a:pt x="20092" y="12055"/>
                </a:cubicBezTo>
                <a:cubicBezTo>
                  <a:pt x="20212" y="12048"/>
                  <a:pt x="20366" y="12002"/>
                  <a:pt x="20464" y="1203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313760" y="4197240"/>
            <a:ext cx="54000" cy="276480"/>
          </a:xfrm>
          <a:custGeom>
            <a:avLst/>
            <a:gdLst/>
            <a:ahLst/>
            <a:rect l="l" t="t" r="r" b="b"/>
            <a:pathLst>
              <a:path w="150" h="770">
                <a:moveTo>
                  <a:pt x="20464" y="11658"/>
                </a:moveTo>
                <a:cubicBezTo>
                  <a:pt x="20451" y="11861"/>
                  <a:pt x="20402" y="12055"/>
                  <a:pt x="20365" y="12254"/>
                </a:cubicBezTo>
                <a:cubicBezTo>
                  <a:pt x="20354" y="12314"/>
                  <a:pt x="20294" y="12412"/>
                  <a:pt x="20340" y="124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295960" y="3187800"/>
            <a:ext cx="61920" cy="81000"/>
          </a:xfrm>
          <a:custGeom>
            <a:avLst/>
            <a:gdLst/>
            <a:ahLst/>
            <a:rect l="l" t="t" r="r" b="b"/>
            <a:pathLst>
              <a:path w="175" h="225">
                <a:moveTo>
                  <a:pt x="14734" y="8979"/>
                </a:moveTo>
                <a:cubicBezTo>
                  <a:pt x="14734" y="8920"/>
                  <a:pt x="14726" y="9059"/>
                  <a:pt x="14759" y="9079"/>
                </a:cubicBezTo>
                <a:cubicBezTo>
                  <a:pt x="14775" y="9079"/>
                  <a:pt x="14792" y="9079"/>
                  <a:pt x="14808" y="9079"/>
                </a:cubicBezTo>
                <a:cubicBezTo>
                  <a:pt x="14817" y="9061"/>
                  <a:pt x="14922" y="8815"/>
                  <a:pt x="14784" y="8880"/>
                </a:cubicBezTo>
                <a:cubicBezTo>
                  <a:pt x="14723" y="8909"/>
                  <a:pt x="14718" y="8974"/>
                  <a:pt x="14709" y="9029"/>
                </a:cubicBezTo>
                <a:cubicBezTo>
                  <a:pt x="14736" y="9024"/>
                  <a:pt x="14994" y="8879"/>
                  <a:pt x="14883" y="8855"/>
                </a:cubicBezTo>
                <a:cubicBezTo>
                  <a:pt x="14854" y="8849"/>
                  <a:pt x="14771" y="8956"/>
                  <a:pt x="14784" y="8979"/>
                </a:cubicBezTo>
                <a:cubicBezTo>
                  <a:pt x="14792" y="8979"/>
                  <a:pt x="14800" y="8979"/>
                  <a:pt x="14808" y="8979"/>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 name=""/>
          <p:cNvSpPr/>
          <p:nvPr/>
        </p:nvSpPr>
        <p:spPr>
          <a:xfrm>
            <a:off x="5286240" y="4303800"/>
            <a:ext cx="162000" cy="241200"/>
          </a:xfrm>
          <a:custGeom>
            <a:avLst/>
            <a:gdLst/>
            <a:ahLst/>
            <a:rect l="l" t="t" r="r" b="b"/>
            <a:pathLst>
              <a:path w="448" h="671">
                <a:moveTo>
                  <a:pt x="14808" y="12055"/>
                </a:moveTo>
                <a:cubicBezTo>
                  <a:pt x="14834" y="12020"/>
                  <a:pt x="14833" y="12024"/>
                  <a:pt x="14833" y="11981"/>
                </a:cubicBezTo>
                <a:cubicBezTo>
                  <a:pt x="14780" y="11946"/>
                  <a:pt x="14747" y="12221"/>
                  <a:pt x="14734" y="12278"/>
                </a:cubicBezTo>
                <a:cubicBezTo>
                  <a:pt x="14722" y="12328"/>
                  <a:pt x="14633" y="12555"/>
                  <a:pt x="14709" y="12601"/>
                </a:cubicBezTo>
                <a:cubicBezTo>
                  <a:pt x="14804" y="12659"/>
                  <a:pt x="14908" y="12589"/>
                  <a:pt x="14982" y="12526"/>
                </a:cubicBezTo>
                <a:cubicBezTo>
                  <a:pt x="15052" y="12466"/>
                  <a:pt x="15113" y="12393"/>
                  <a:pt x="15131" y="12303"/>
                </a:cubicBezTo>
                <a:cubicBezTo>
                  <a:pt x="15037" y="12279"/>
                  <a:pt x="15026" y="12286"/>
                  <a:pt x="14957" y="12378"/>
                </a:cubicBezTo>
                <a:cubicBezTo>
                  <a:pt x="14921" y="12425"/>
                  <a:pt x="14849" y="12534"/>
                  <a:pt x="14883" y="12601"/>
                </a:cubicBezTo>
                <a:cubicBezTo>
                  <a:pt x="14891" y="12609"/>
                  <a:pt x="14900" y="12618"/>
                  <a:pt x="14908" y="126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348240" y="4268880"/>
            <a:ext cx="36720" cy="152280"/>
          </a:xfrm>
          <a:custGeom>
            <a:avLst/>
            <a:gdLst/>
            <a:ahLst/>
            <a:rect l="l" t="t" r="r" b="b"/>
            <a:pathLst>
              <a:path w="100" h="422">
                <a:moveTo>
                  <a:pt x="17735" y="11857"/>
                </a:moveTo>
                <a:cubicBezTo>
                  <a:pt x="17720" y="11976"/>
                  <a:pt x="17697" y="12114"/>
                  <a:pt x="17661" y="12229"/>
                </a:cubicBezTo>
                <a:cubicBezTo>
                  <a:pt x="17653" y="12245"/>
                  <a:pt x="17644" y="12262"/>
                  <a:pt x="17636" y="122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276960" y="4321080"/>
            <a:ext cx="196920" cy="36720"/>
          </a:xfrm>
          <a:custGeom>
            <a:avLst/>
            <a:gdLst/>
            <a:ahLst/>
            <a:rect l="l" t="t" r="r" b="b"/>
            <a:pathLst>
              <a:path w="546" h="101">
                <a:moveTo>
                  <a:pt x="17438" y="12105"/>
                </a:moveTo>
                <a:cubicBezTo>
                  <a:pt x="17535" y="12080"/>
                  <a:pt x="17650" y="12076"/>
                  <a:pt x="17760" y="12055"/>
                </a:cubicBezTo>
                <a:cubicBezTo>
                  <a:pt x="17837" y="12040"/>
                  <a:pt x="17905" y="12005"/>
                  <a:pt x="17983" y="12005"/>
                </a:cubicBezTo>
              </a:path>
            </a:pathLst>
          </a:custGeom>
          <a:noFill/>
          <a:ln cap="rnd" w="3492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 name=""/>
          <p:cNvSpPr/>
          <p:nvPr/>
        </p:nvSpPr>
        <p:spPr>
          <a:xfrm>
            <a:off x="6242040" y="3000240"/>
            <a:ext cx="17640" cy="98640"/>
          </a:xfrm>
          <a:custGeom>
            <a:avLst/>
            <a:gdLst/>
            <a:ahLst/>
            <a:rect l="l" t="t" r="r" b="b"/>
            <a:pathLst>
              <a:path w="51" h="274">
                <a:moveTo>
                  <a:pt x="17338" y="8359"/>
                </a:moveTo>
                <a:cubicBezTo>
                  <a:pt x="17374" y="8323"/>
                  <a:pt x="17385" y="8499"/>
                  <a:pt x="17388" y="8558"/>
                </a:cubicBezTo>
                <a:cubicBezTo>
                  <a:pt x="17388" y="8607"/>
                  <a:pt x="17388" y="8623"/>
                  <a:pt x="17388" y="85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367320" y="2938320"/>
            <a:ext cx="98640" cy="115920"/>
          </a:xfrm>
          <a:custGeom>
            <a:avLst/>
            <a:gdLst/>
            <a:ahLst/>
            <a:rect l="l" t="t" r="r" b="b"/>
            <a:pathLst>
              <a:path w="274" h="323">
                <a:moveTo>
                  <a:pt x="17760" y="8161"/>
                </a:moveTo>
                <a:cubicBezTo>
                  <a:pt x="17706" y="8269"/>
                  <a:pt x="17693" y="8336"/>
                  <a:pt x="17686" y="8458"/>
                </a:cubicBezTo>
                <a:cubicBezTo>
                  <a:pt x="17826" y="8486"/>
                  <a:pt x="17906" y="8431"/>
                  <a:pt x="17959" y="8285"/>
                </a:cubicBezTo>
                <a:cubicBezTo>
                  <a:pt x="18001" y="8168"/>
                  <a:pt x="17807" y="8230"/>
                  <a:pt x="17760" y="82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95" name="PlaceHolder 2"/>
          <p:cNvSpPr>
            <a:spLocks noGrp="1"/>
          </p:cNvSpPr>
          <p:nvPr>
            <p:ph/>
          </p:nvPr>
        </p:nvSpPr>
        <p:spPr>
          <a:xfrm>
            <a:off x="228240" y="990360"/>
            <a:ext cx="4267080" cy="51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d the length of a side by calculating the distance between poi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 of line w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4) and (-2, -4) mak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Vertical or Horizont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paces are between the two point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 of line would (2,3) and (2,-5) mak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Vertical or Horizont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paces are between the two points?</a:t>
            </a:r>
            <a:endParaRPr b="0" lang="en-US" sz="2000" spc="-1" strike="noStrike">
              <a:solidFill>
                <a:srgbClr val="000000"/>
              </a:solidFill>
              <a:latin typeface="Arial"/>
            </a:endParaRPr>
          </a:p>
        </p:txBody>
      </p:sp>
      <p:graphicFrame>
        <p:nvGraphicFramePr>
          <p:cNvPr id="96" name=""/>
          <p:cNvGraphicFramePr/>
          <p:nvPr/>
        </p:nvGraphicFramePr>
        <p:xfrm>
          <a:off x="4724280" y="1066680"/>
          <a:ext cx="4038480" cy="5175360"/>
        </p:xfrm>
        <a:graphic>
          <a:graphicData uri="http://schemas.openxmlformats.org/drawingml/2006/table">
            <a:tbl>
              <a:tblPr/>
              <a:tblGrid>
                <a:gridCol w="403200"/>
                <a:gridCol w="404640"/>
                <a:gridCol w="403200"/>
                <a:gridCol w="405000"/>
                <a:gridCol w="403200"/>
                <a:gridCol w="403200"/>
                <a:gridCol w="404640"/>
                <a:gridCol w="403200"/>
                <a:gridCol w="405000"/>
                <a:gridCol w="40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4724280" y="3657600"/>
            <a:ext cx="403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781680" y="1066680"/>
            <a:ext cx="0" cy="5181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98160" y="6324480"/>
            <a:ext cx="832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ead of counting spaces to determine length, you can use addition or subtraction.</a:t>
            </a:r>
            <a:endParaRPr b="0" lang="en-US" sz="1600" spc="-1" strike="noStrike">
              <a:solidFill>
                <a:srgbClr val="000000"/>
              </a:solidFill>
              <a:latin typeface="Arial"/>
            </a:endParaRPr>
          </a:p>
        </p:txBody>
      </p:sp>
      <p:sp>
        <p:nvSpPr>
          <p:cNvPr id="100" name=""/>
          <p:cNvSpPr/>
          <p:nvPr/>
        </p:nvSpPr>
        <p:spPr>
          <a:xfrm>
            <a:off x="4554360" y="3473280"/>
            <a:ext cx="1830600" cy="669960"/>
          </a:xfrm>
          <a:custGeom>
            <a:avLst/>
            <a:gdLst/>
            <a:ahLst/>
            <a:rect l="l" t="t" r="r" b="b"/>
            <a:pathLst>
              <a:path w="5086" h="1861">
                <a:moveTo>
                  <a:pt x="12923" y="9674"/>
                </a:moveTo>
                <a:cubicBezTo>
                  <a:pt x="12959" y="9565"/>
                  <a:pt x="13090" y="9812"/>
                  <a:pt x="13097" y="9823"/>
                </a:cubicBezTo>
                <a:cubicBezTo>
                  <a:pt x="13217" y="10018"/>
                  <a:pt x="13306" y="10281"/>
                  <a:pt x="13469" y="10443"/>
                </a:cubicBezTo>
                <a:cubicBezTo>
                  <a:pt x="13477" y="10443"/>
                  <a:pt x="13486" y="10443"/>
                  <a:pt x="13494" y="10443"/>
                </a:cubicBezTo>
              </a:path>
              <a:path w="5086" h="1861">
                <a:moveTo>
                  <a:pt x="12650" y="10517"/>
                </a:moveTo>
                <a:cubicBezTo>
                  <a:pt x="12925" y="10449"/>
                  <a:pt x="13136" y="10219"/>
                  <a:pt x="13395" y="10096"/>
                </a:cubicBezTo>
                <a:cubicBezTo>
                  <a:pt x="13591" y="10002"/>
                  <a:pt x="13643" y="10013"/>
                  <a:pt x="13816" y="9971"/>
                </a:cubicBezTo>
              </a:path>
              <a:path w="5086" h="1861">
                <a:moveTo>
                  <a:pt x="13742" y="10815"/>
                </a:moveTo>
                <a:cubicBezTo>
                  <a:pt x="13849" y="10815"/>
                  <a:pt x="13957" y="10815"/>
                  <a:pt x="14064" y="10815"/>
                </a:cubicBezTo>
              </a:path>
              <a:path w="5086" h="1861">
                <a:moveTo>
                  <a:pt x="13915" y="10691"/>
                </a:moveTo>
                <a:cubicBezTo>
                  <a:pt x="13920" y="10713"/>
                  <a:pt x="13953" y="10805"/>
                  <a:pt x="13965" y="10815"/>
                </a:cubicBezTo>
                <a:cubicBezTo>
                  <a:pt x="14027" y="10867"/>
                  <a:pt x="14519" y="10815"/>
                  <a:pt x="14511" y="10815"/>
                </a:cubicBezTo>
                <a:cubicBezTo>
                  <a:pt x="14459" y="10846"/>
                  <a:pt x="14436" y="10861"/>
                  <a:pt x="14436" y="10790"/>
                </a:cubicBezTo>
                <a:cubicBezTo>
                  <a:pt x="14436" y="10754"/>
                  <a:pt x="14443" y="10718"/>
                  <a:pt x="14461" y="10691"/>
                </a:cubicBezTo>
                <a:cubicBezTo>
                  <a:pt x="14485" y="10655"/>
                  <a:pt x="14523" y="10631"/>
                  <a:pt x="14536" y="10592"/>
                </a:cubicBezTo>
                <a:cubicBezTo>
                  <a:pt x="14545" y="10565"/>
                  <a:pt x="14553" y="10545"/>
                  <a:pt x="14560" y="10517"/>
                </a:cubicBezTo>
                <a:cubicBezTo>
                  <a:pt x="14560" y="10581"/>
                  <a:pt x="14555" y="10657"/>
                  <a:pt x="14536" y="10716"/>
                </a:cubicBezTo>
                <a:cubicBezTo>
                  <a:pt x="14509" y="10801"/>
                  <a:pt x="14448" y="10898"/>
                  <a:pt x="14436" y="10988"/>
                </a:cubicBezTo>
                <a:cubicBezTo>
                  <a:pt x="14422" y="11099"/>
                  <a:pt x="14436" y="11223"/>
                  <a:pt x="14436" y="11336"/>
                </a:cubicBezTo>
              </a:path>
              <a:path w="5086" h="1861">
                <a:moveTo>
                  <a:pt x="14089" y="10666"/>
                </a:moveTo>
                <a:cubicBezTo>
                  <a:pt x="14036" y="10653"/>
                  <a:pt x="14004" y="10641"/>
                  <a:pt x="13940" y="10641"/>
                </a:cubicBezTo>
                <a:cubicBezTo>
                  <a:pt x="13915" y="10641"/>
                  <a:pt x="13891" y="10641"/>
                  <a:pt x="13866" y="10641"/>
                </a:cubicBezTo>
              </a:path>
              <a:path w="5086" h="1861">
                <a:moveTo>
                  <a:pt x="14039" y="10790"/>
                </a:moveTo>
                <a:cubicBezTo>
                  <a:pt x="14039" y="10738"/>
                  <a:pt x="14023" y="10716"/>
                  <a:pt x="14015" y="10666"/>
                </a:cubicBezTo>
                <a:cubicBezTo>
                  <a:pt x="13995" y="10549"/>
                  <a:pt x="14000" y="10323"/>
                  <a:pt x="14039" y="10244"/>
                </a:cubicBezTo>
                <a:cubicBezTo>
                  <a:pt x="14039" y="10236"/>
                  <a:pt x="14039" y="10228"/>
                  <a:pt x="14039" y="10220"/>
                </a:cubicBezTo>
              </a:path>
              <a:path w="5086" h="1861">
                <a:moveTo>
                  <a:pt x="13816" y="10815"/>
                </a:moveTo>
                <a:cubicBezTo>
                  <a:pt x="13727" y="10815"/>
                  <a:pt x="13665" y="10850"/>
                  <a:pt x="13568" y="10840"/>
                </a:cubicBezTo>
                <a:cubicBezTo>
                  <a:pt x="13538" y="10837"/>
                  <a:pt x="13233" y="10796"/>
                  <a:pt x="13370" y="10790"/>
                </a:cubicBezTo>
                <a:cubicBezTo>
                  <a:pt x="13486" y="10790"/>
                  <a:pt x="13536" y="10793"/>
                  <a:pt x="13618" y="10815"/>
                </a:cubicBezTo>
                <a:cubicBezTo>
                  <a:pt x="13634" y="10815"/>
                  <a:pt x="13651" y="10815"/>
                  <a:pt x="13667" y="10815"/>
                </a:cubicBezTo>
                <a:cubicBezTo>
                  <a:pt x="13508" y="10797"/>
                  <a:pt x="13356" y="10790"/>
                  <a:pt x="13196" y="10790"/>
                </a:cubicBezTo>
              </a:path>
              <a:path w="5086" h="1861">
                <a:moveTo>
                  <a:pt x="15032" y="10988"/>
                </a:moveTo>
                <a:cubicBezTo>
                  <a:pt x="15004" y="10988"/>
                  <a:pt x="14998" y="10986"/>
                  <a:pt x="15032" y="10964"/>
                </a:cubicBezTo>
                <a:cubicBezTo>
                  <a:pt x="15069" y="10992"/>
                  <a:pt x="15084" y="10988"/>
                  <a:pt x="15131" y="10988"/>
                </a:cubicBezTo>
                <a:cubicBezTo>
                  <a:pt x="15289" y="10988"/>
                  <a:pt x="15063" y="10988"/>
                  <a:pt x="15156" y="10988"/>
                </a:cubicBezTo>
              </a:path>
              <a:path w="5086" h="1861">
                <a:moveTo>
                  <a:pt x="15230" y="10740"/>
                </a:moveTo>
                <a:cubicBezTo>
                  <a:pt x="15306" y="10725"/>
                  <a:pt x="15346" y="10733"/>
                  <a:pt x="15429" y="10740"/>
                </a:cubicBezTo>
                <a:cubicBezTo>
                  <a:pt x="15437" y="10740"/>
                  <a:pt x="15445" y="10740"/>
                  <a:pt x="15453" y="10740"/>
                </a:cubicBezTo>
                <a:cubicBezTo>
                  <a:pt x="15417" y="10777"/>
                  <a:pt x="15365" y="10839"/>
                  <a:pt x="15329" y="10864"/>
                </a:cubicBezTo>
                <a:cubicBezTo>
                  <a:pt x="15304" y="10864"/>
                  <a:pt x="15296" y="10864"/>
                  <a:pt x="15304" y="10889"/>
                </a:cubicBezTo>
                <a:cubicBezTo>
                  <a:pt x="15372" y="10918"/>
                  <a:pt x="15441" y="10944"/>
                  <a:pt x="15503" y="10988"/>
                </a:cubicBezTo>
                <a:cubicBezTo>
                  <a:pt x="15577" y="11040"/>
                  <a:pt x="15562" y="11119"/>
                  <a:pt x="15553" y="11187"/>
                </a:cubicBezTo>
                <a:cubicBezTo>
                  <a:pt x="15540" y="11282"/>
                  <a:pt x="15409" y="11308"/>
                  <a:pt x="15329" y="11311"/>
                </a:cubicBezTo>
                <a:cubicBezTo>
                  <a:pt x="15255" y="11311"/>
                  <a:pt x="15230" y="11311"/>
                  <a:pt x="15180" y="11311"/>
                </a:cubicBezTo>
              </a:path>
              <a:path w="5086" h="1861">
                <a:moveTo>
                  <a:pt x="16148" y="10939"/>
                </a:moveTo>
                <a:cubicBezTo>
                  <a:pt x="16148" y="10914"/>
                  <a:pt x="16148" y="10906"/>
                  <a:pt x="16148" y="10889"/>
                </a:cubicBezTo>
                <a:cubicBezTo>
                  <a:pt x="16206" y="10889"/>
                  <a:pt x="16263" y="10889"/>
                  <a:pt x="16321" y="10889"/>
                </a:cubicBezTo>
              </a:path>
              <a:path w="5086" h="1861">
                <a:moveTo>
                  <a:pt x="16396" y="10641"/>
                </a:moveTo>
                <a:cubicBezTo>
                  <a:pt x="16462" y="10641"/>
                  <a:pt x="16501" y="10658"/>
                  <a:pt x="16570" y="10666"/>
                </a:cubicBezTo>
                <a:cubicBezTo>
                  <a:pt x="16706" y="10681"/>
                  <a:pt x="16599" y="10668"/>
                  <a:pt x="16669" y="10691"/>
                </a:cubicBezTo>
                <a:cubicBezTo>
                  <a:pt x="16657" y="10750"/>
                  <a:pt x="16615" y="10789"/>
                  <a:pt x="16594" y="10840"/>
                </a:cubicBezTo>
                <a:cubicBezTo>
                  <a:pt x="16566" y="10908"/>
                  <a:pt x="16486" y="10950"/>
                  <a:pt x="16421" y="10988"/>
                </a:cubicBezTo>
                <a:cubicBezTo>
                  <a:pt x="16336" y="11038"/>
                  <a:pt x="16256" y="11128"/>
                  <a:pt x="16173" y="11162"/>
                </a:cubicBezTo>
                <a:cubicBezTo>
                  <a:pt x="16173" y="11260"/>
                  <a:pt x="16346" y="11272"/>
                  <a:pt x="16421" y="11286"/>
                </a:cubicBezTo>
                <a:cubicBezTo>
                  <a:pt x="16520" y="11305"/>
                  <a:pt x="16641" y="11321"/>
                  <a:pt x="16743" y="11336"/>
                </a:cubicBezTo>
              </a:path>
              <a:path w="5086" h="1861">
                <a:moveTo>
                  <a:pt x="17165" y="10914"/>
                </a:moveTo>
                <a:cubicBezTo>
                  <a:pt x="17157" y="10914"/>
                  <a:pt x="17148" y="10914"/>
                  <a:pt x="17140" y="10914"/>
                </a:cubicBezTo>
                <a:cubicBezTo>
                  <a:pt x="17162" y="10948"/>
                  <a:pt x="17188" y="10939"/>
                  <a:pt x="17239" y="10939"/>
                </a:cubicBezTo>
                <a:cubicBezTo>
                  <a:pt x="17289" y="10939"/>
                  <a:pt x="17298" y="10950"/>
                  <a:pt x="17338" y="10964"/>
                </a:cubicBezTo>
                <a:cubicBezTo>
                  <a:pt x="17371" y="10975"/>
                  <a:pt x="17427" y="10964"/>
                  <a:pt x="17462" y="10964"/>
                </a:cubicBezTo>
              </a:path>
              <a:path w="5086" h="1861">
                <a:moveTo>
                  <a:pt x="17735" y="10666"/>
                </a:moveTo>
                <a:cubicBezTo>
                  <a:pt x="17676" y="10762"/>
                  <a:pt x="17610" y="10868"/>
                  <a:pt x="17562" y="10964"/>
                </a:cubicBezTo>
                <a:cubicBezTo>
                  <a:pt x="17521" y="11046"/>
                  <a:pt x="17480" y="11149"/>
                  <a:pt x="17462" y="11237"/>
                </a:cubicBezTo>
              </a:path>
              <a:path w="5086" h="1861">
                <a:moveTo>
                  <a:pt x="12700" y="11112"/>
                </a:moveTo>
                <a:cubicBezTo>
                  <a:pt x="12767" y="11090"/>
                  <a:pt x="12822" y="11045"/>
                  <a:pt x="12898" y="11038"/>
                </a:cubicBezTo>
                <a:cubicBezTo>
                  <a:pt x="12947" y="11033"/>
                  <a:pt x="12961" y="11055"/>
                  <a:pt x="12998" y="11063"/>
                </a:cubicBezTo>
                <a:cubicBezTo>
                  <a:pt x="13039" y="11063"/>
                  <a:pt x="13063" y="11063"/>
                  <a:pt x="13022" y="11063"/>
                </a:cubicBezTo>
              </a:path>
              <a:path w="5086" h="1861">
                <a:moveTo>
                  <a:pt x="13841" y="10740"/>
                </a:moveTo>
                <a:cubicBezTo>
                  <a:pt x="13748" y="10730"/>
                  <a:pt x="13664" y="10716"/>
                  <a:pt x="13568" y="10716"/>
                </a:cubicBezTo>
                <a:cubicBezTo>
                  <a:pt x="13461" y="10716"/>
                  <a:pt x="13353" y="10716"/>
                  <a:pt x="13246" y="10716"/>
                </a:cubicBezTo>
                <a:cubicBezTo>
                  <a:pt x="13252" y="10786"/>
                  <a:pt x="13259" y="10849"/>
                  <a:pt x="13295" y="10914"/>
                </a:cubicBezTo>
                <a:cubicBezTo>
                  <a:pt x="13318" y="10955"/>
                  <a:pt x="13313" y="10943"/>
                  <a:pt x="13320" y="10988"/>
                </a:cubicBezTo>
                <a:cubicBezTo>
                  <a:pt x="13394" y="10952"/>
                  <a:pt x="13486" y="10898"/>
                  <a:pt x="13568" y="10864"/>
                </a:cubicBezTo>
                <a:cubicBezTo>
                  <a:pt x="13655" y="10828"/>
                  <a:pt x="13812" y="10858"/>
                  <a:pt x="13891" y="10914"/>
                </a:cubicBezTo>
                <a:cubicBezTo>
                  <a:pt x="14025" y="11008"/>
                  <a:pt x="14078" y="11195"/>
                  <a:pt x="13990" y="11336"/>
                </a:cubicBezTo>
                <a:cubicBezTo>
                  <a:pt x="13843" y="11572"/>
                  <a:pt x="13541" y="11522"/>
                  <a:pt x="13320" y="11460"/>
                </a:cubicBezTo>
                <a:cubicBezTo>
                  <a:pt x="13177" y="11420"/>
                  <a:pt x="13167" y="11402"/>
                  <a:pt x="13146" y="112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616800" y="3562200"/>
            <a:ext cx="206280" cy="189000"/>
          </a:xfrm>
          <a:custGeom>
            <a:avLst/>
            <a:gdLst/>
            <a:ahLst/>
            <a:rect l="l" t="t" r="r" b="b"/>
            <a:pathLst>
              <a:path w="572" h="522">
                <a:moveTo>
                  <a:pt x="18901" y="10120"/>
                </a:moveTo>
                <a:cubicBezTo>
                  <a:pt x="18867" y="10052"/>
                  <a:pt x="18851" y="9977"/>
                  <a:pt x="18777" y="9947"/>
                </a:cubicBezTo>
                <a:cubicBezTo>
                  <a:pt x="18718" y="9923"/>
                  <a:pt x="18652" y="9916"/>
                  <a:pt x="18604" y="9971"/>
                </a:cubicBezTo>
                <a:cubicBezTo>
                  <a:pt x="18482" y="10112"/>
                  <a:pt x="18499" y="10331"/>
                  <a:pt x="18678" y="10418"/>
                </a:cubicBezTo>
                <a:cubicBezTo>
                  <a:pt x="18809" y="10481"/>
                  <a:pt x="18934" y="10293"/>
                  <a:pt x="18951" y="10195"/>
                </a:cubicBezTo>
                <a:cubicBezTo>
                  <a:pt x="18975" y="10053"/>
                  <a:pt x="18904" y="9977"/>
                  <a:pt x="18777" y="9922"/>
                </a:cubicBezTo>
                <a:cubicBezTo>
                  <a:pt x="18642" y="9864"/>
                  <a:pt x="18489" y="9927"/>
                  <a:pt x="18380" y="99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26200" y="3848040"/>
            <a:ext cx="44640" cy="206280"/>
          </a:xfrm>
          <a:custGeom>
            <a:avLst/>
            <a:gdLst/>
            <a:ahLst/>
            <a:rect l="l" t="t" r="r" b="b"/>
            <a:pathLst>
              <a:path w="125" h="571">
                <a:moveTo>
                  <a:pt x="19918" y="10765"/>
                </a:moveTo>
                <a:cubicBezTo>
                  <a:pt x="19918" y="10737"/>
                  <a:pt x="19916" y="10726"/>
                  <a:pt x="19893" y="10716"/>
                </a:cubicBezTo>
                <a:cubicBezTo>
                  <a:pt x="19893" y="10614"/>
                  <a:pt x="19863" y="10864"/>
                  <a:pt x="19844" y="10964"/>
                </a:cubicBezTo>
                <a:cubicBezTo>
                  <a:pt x="19823" y="11079"/>
                  <a:pt x="19794" y="11329"/>
                  <a:pt x="19794" y="112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18240" y="3857760"/>
            <a:ext cx="465120" cy="196560"/>
          </a:xfrm>
          <a:custGeom>
            <a:avLst/>
            <a:gdLst/>
            <a:ahLst/>
            <a:rect l="l" t="t" r="r" b="b"/>
            <a:pathLst>
              <a:path w="1290" h="546">
                <a:moveTo>
                  <a:pt x="21134" y="10740"/>
                </a:moveTo>
                <a:cubicBezTo>
                  <a:pt x="20996" y="10707"/>
                  <a:pt x="21236" y="10714"/>
                  <a:pt x="21258" y="10716"/>
                </a:cubicBezTo>
                <a:cubicBezTo>
                  <a:pt x="21299" y="10724"/>
                  <a:pt x="21341" y="10732"/>
                  <a:pt x="21382" y="10740"/>
                </a:cubicBezTo>
                <a:cubicBezTo>
                  <a:pt x="21211" y="10765"/>
                  <a:pt x="21041" y="10797"/>
                  <a:pt x="20886" y="10864"/>
                </a:cubicBezTo>
                <a:cubicBezTo>
                  <a:pt x="21009" y="10961"/>
                  <a:pt x="21454" y="11067"/>
                  <a:pt x="21307" y="11013"/>
                </a:cubicBezTo>
                <a:cubicBezTo>
                  <a:pt x="21274" y="11005"/>
                  <a:pt x="21241" y="10996"/>
                  <a:pt x="21208" y="10988"/>
                </a:cubicBezTo>
              </a:path>
              <a:path w="1290" h="546">
                <a:moveTo>
                  <a:pt x="21654" y="10740"/>
                </a:moveTo>
                <a:cubicBezTo>
                  <a:pt x="21726" y="10734"/>
                  <a:pt x="21805" y="10703"/>
                  <a:pt x="21878" y="10716"/>
                </a:cubicBezTo>
                <a:cubicBezTo>
                  <a:pt x="21972" y="10733"/>
                  <a:pt x="22062" y="10741"/>
                  <a:pt x="22151" y="10765"/>
                </a:cubicBezTo>
                <a:cubicBezTo>
                  <a:pt x="22084" y="10859"/>
                  <a:pt x="21971" y="10874"/>
                  <a:pt x="21853" y="10889"/>
                </a:cubicBezTo>
                <a:cubicBezTo>
                  <a:pt x="21828" y="10889"/>
                  <a:pt x="21804" y="10889"/>
                  <a:pt x="21779" y="10889"/>
                </a:cubicBezTo>
                <a:cubicBezTo>
                  <a:pt x="21927" y="10889"/>
                  <a:pt x="22037" y="10936"/>
                  <a:pt x="22175" y="10988"/>
                </a:cubicBezTo>
                <a:cubicBezTo>
                  <a:pt x="22175" y="11124"/>
                  <a:pt x="22110" y="11238"/>
                  <a:pt x="21952" y="11261"/>
                </a:cubicBezTo>
                <a:cubicBezTo>
                  <a:pt x="21789" y="11285"/>
                  <a:pt x="21532" y="11188"/>
                  <a:pt x="21431" y="110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224920" y="3776760"/>
            <a:ext cx="652320" cy="287280"/>
          </a:xfrm>
          <a:custGeom>
            <a:avLst/>
            <a:gdLst/>
            <a:ahLst/>
            <a:rect l="l" t="t" r="r" b="b"/>
            <a:pathLst>
              <a:path w="1812" h="795">
                <a:moveTo>
                  <a:pt x="22944" y="10616"/>
                </a:moveTo>
                <a:cubicBezTo>
                  <a:pt x="22934" y="10712"/>
                  <a:pt x="22908" y="10764"/>
                  <a:pt x="22845" y="10840"/>
                </a:cubicBezTo>
                <a:cubicBezTo>
                  <a:pt x="22969" y="10892"/>
                  <a:pt x="23059" y="10904"/>
                  <a:pt x="23192" y="10864"/>
                </a:cubicBezTo>
              </a:path>
              <a:path w="1812" h="795">
                <a:moveTo>
                  <a:pt x="23366" y="10691"/>
                </a:moveTo>
                <a:cubicBezTo>
                  <a:pt x="23391" y="10691"/>
                  <a:pt x="23399" y="10691"/>
                  <a:pt x="23391" y="10666"/>
                </a:cubicBezTo>
                <a:cubicBezTo>
                  <a:pt x="23413" y="10798"/>
                  <a:pt x="23396" y="10904"/>
                  <a:pt x="23366" y="11038"/>
                </a:cubicBezTo>
                <a:cubicBezTo>
                  <a:pt x="23345" y="11131"/>
                  <a:pt x="23295" y="11365"/>
                  <a:pt x="23242" y="11286"/>
                </a:cubicBezTo>
                <a:cubicBezTo>
                  <a:pt x="23250" y="11270"/>
                  <a:pt x="23259" y="11253"/>
                  <a:pt x="23267" y="11237"/>
                </a:cubicBezTo>
              </a:path>
              <a:path w="1812" h="795">
                <a:moveTo>
                  <a:pt x="24656" y="10641"/>
                </a:moveTo>
                <a:cubicBezTo>
                  <a:pt x="24532" y="10620"/>
                  <a:pt x="24408" y="10571"/>
                  <a:pt x="24284" y="10542"/>
                </a:cubicBezTo>
                <a:cubicBezTo>
                  <a:pt x="24213" y="10526"/>
                  <a:pt x="24155" y="10492"/>
                  <a:pt x="24085" y="10492"/>
                </a:cubicBezTo>
                <a:cubicBezTo>
                  <a:pt x="24028" y="10492"/>
                  <a:pt x="23969" y="10664"/>
                  <a:pt x="23937" y="10716"/>
                </a:cubicBezTo>
                <a:cubicBezTo>
                  <a:pt x="23897" y="10775"/>
                  <a:pt x="23893" y="10787"/>
                  <a:pt x="23862" y="10815"/>
                </a:cubicBezTo>
                <a:cubicBezTo>
                  <a:pt x="24037" y="10802"/>
                  <a:pt x="24180" y="10806"/>
                  <a:pt x="24358" y="10840"/>
                </a:cubicBezTo>
                <a:cubicBezTo>
                  <a:pt x="24477" y="10863"/>
                  <a:pt x="24596" y="10916"/>
                  <a:pt x="24557" y="11063"/>
                </a:cubicBezTo>
                <a:cubicBezTo>
                  <a:pt x="24495" y="11293"/>
                  <a:pt x="24264" y="11215"/>
                  <a:pt x="24110" y="11137"/>
                </a:cubicBezTo>
                <a:cubicBezTo>
                  <a:pt x="23991" y="11058"/>
                  <a:pt x="23967" y="11051"/>
                  <a:pt x="23912" y="109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16720" y="1697040"/>
            <a:ext cx="2411280" cy="4473720"/>
          </a:xfrm>
          <a:custGeom>
            <a:avLst/>
            <a:gdLst/>
            <a:ahLst/>
            <a:rect l="l" t="t" r="r" b="b"/>
            <a:pathLst>
              <a:path w="6698" h="12428">
                <a:moveTo>
                  <a:pt x="21952" y="15577"/>
                </a:moveTo>
                <a:cubicBezTo>
                  <a:pt x="21944" y="15569"/>
                  <a:pt x="21935" y="15561"/>
                  <a:pt x="21927" y="15553"/>
                </a:cubicBezTo>
                <a:cubicBezTo>
                  <a:pt x="21943" y="15616"/>
                  <a:pt x="21986" y="15721"/>
                  <a:pt x="22027" y="15776"/>
                </a:cubicBezTo>
                <a:cubicBezTo>
                  <a:pt x="22077" y="15844"/>
                  <a:pt x="22146" y="15881"/>
                  <a:pt x="22175" y="15949"/>
                </a:cubicBezTo>
                <a:cubicBezTo>
                  <a:pt x="22217" y="16047"/>
                  <a:pt x="22188" y="16002"/>
                  <a:pt x="22250" y="16049"/>
                </a:cubicBezTo>
                <a:cubicBezTo>
                  <a:pt x="22299" y="16033"/>
                  <a:pt x="22293" y="16030"/>
                  <a:pt x="22275" y="15974"/>
                </a:cubicBezTo>
              </a:path>
              <a:path w="6698" h="12428">
                <a:moveTo>
                  <a:pt x="22299" y="15453"/>
                </a:moveTo>
                <a:cubicBezTo>
                  <a:pt x="22245" y="15549"/>
                  <a:pt x="22169" y="15645"/>
                  <a:pt x="22126" y="15751"/>
                </a:cubicBezTo>
                <a:cubicBezTo>
                  <a:pt x="22090" y="15841"/>
                  <a:pt x="22078" y="15973"/>
                  <a:pt x="21977" y="16024"/>
                </a:cubicBezTo>
                <a:cubicBezTo>
                  <a:pt x="21947" y="16039"/>
                  <a:pt x="21885" y="16079"/>
                  <a:pt x="21853" y="16123"/>
                </a:cubicBezTo>
                <a:cubicBezTo>
                  <a:pt x="21821" y="16167"/>
                  <a:pt x="21828" y="16196"/>
                  <a:pt x="21828" y="16247"/>
                </a:cubicBezTo>
              </a:path>
              <a:path w="6698" h="12428">
                <a:moveTo>
                  <a:pt x="15875" y="15280"/>
                </a:moveTo>
                <a:cubicBezTo>
                  <a:pt x="15951" y="15312"/>
                  <a:pt x="15887" y="15271"/>
                  <a:pt x="15949" y="15354"/>
                </a:cubicBezTo>
                <a:cubicBezTo>
                  <a:pt x="16000" y="15423"/>
                  <a:pt x="16054" y="15463"/>
                  <a:pt x="16098" y="15528"/>
                </a:cubicBezTo>
                <a:cubicBezTo>
                  <a:pt x="16162" y="15623"/>
                  <a:pt x="16170" y="15738"/>
                  <a:pt x="16247" y="15825"/>
                </a:cubicBezTo>
                <a:cubicBezTo>
                  <a:pt x="16321" y="15908"/>
                  <a:pt x="16405" y="15960"/>
                  <a:pt x="16470" y="16049"/>
                </a:cubicBezTo>
                <a:cubicBezTo>
                  <a:pt x="16529" y="16129"/>
                  <a:pt x="16592" y="16234"/>
                  <a:pt x="16669" y="16297"/>
                </a:cubicBezTo>
                <a:cubicBezTo>
                  <a:pt x="16708" y="16329"/>
                  <a:pt x="16761" y="16383"/>
                  <a:pt x="16818" y="16421"/>
                </a:cubicBezTo>
                <a:cubicBezTo>
                  <a:pt x="16872" y="16457"/>
                  <a:pt x="17083" y="16645"/>
                  <a:pt x="16818" y="16421"/>
                </a:cubicBezTo>
              </a:path>
              <a:path w="6698" h="12428">
                <a:moveTo>
                  <a:pt x="15602" y="16297"/>
                </a:moveTo>
                <a:cubicBezTo>
                  <a:pt x="15668" y="16297"/>
                  <a:pt x="15711" y="16292"/>
                  <a:pt x="15776" y="16272"/>
                </a:cubicBezTo>
                <a:cubicBezTo>
                  <a:pt x="15948" y="16219"/>
                  <a:pt x="16052" y="16098"/>
                  <a:pt x="16197" y="15999"/>
                </a:cubicBezTo>
                <a:cubicBezTo>
                  <a:pt x="16350" y="15894"/>
                  <a:pt x="16447" y="15789"/>
                  <a:pt x="16570" y="15652"/>
                </a:cubicBezTo>
                <a:cubicBezTo>
                  <a:pt x="16669" y="15541"/>
                  <a:pt x="16741" y="15416"/>
                  <a:pt x="16842" y="15304"/>
                </a:cubicBezTo>
                <a:cubicBezTo>
                  <a:pt x="16936" y="15199"/>
                  <a:pt x="17043" y="15110"/>
                  <a:pt x="17140" y="15007"/>
                </a:cubicBezTo>
                <a:cubicBezTo>
                  <a:pt x="17159" y="14986"/>
                  <a:pt x="17140" y="15035"/>
                  <a:pt x="17140" y="15007"/>
                </a:cubicBezTo>
              </a:path>
              <a:path w="6698" h="12428">
                <a:moveTo>
                  <a:pt x="16694" y="15925"/>
                </a:moveTo>
                <a:cubicBezTo>
                  <a:pt x="16678" y="15904"/>
                  <a:pt x="16693" y="15860"/>
                  <a:pt x="16669" y="15850"/>
                </a:cubicBezTo>
                <a:cubicBezTo>
                  <a:pt x="16619" y="15830"/>
                  <a:pt x="16483" y="15856"/>
                  <a:pt x="16446" y="15875"/>
                </a:cubicBezTo>
                <a:cubicBezTo>
                  <a:pt x="16443" y="15877"/>
                  <a:pt x="16404" y="15918"/>
                  <a:pt x="16396" y="15925"/>
                </a:cubicBezTo>
                <a:cubicBezTo>
                  <a:pt x="16366" y="15952"/>
                  <a:pt x="16325" y="15977"/>
                  <a:pt x="16297" y="15999"/>
                </a:cubicBezTo>
                <a:cubicBezTo>
                  <a:pt x="16347" y="15990"/>
                  <a:pt x="16470" y="15985"/>
                  <a:pt x="16545" y="15949"/>
                </a:cubicBezTo>
                <a:cubicBezTo>
                  <a:pt x="16602" y="15922"/>
                  <a:pt x="16663" y="15870"/>
                  <a:pt x="16718" y="15850"/>
                </a:cubicBezTo>
                <a:cubicBezTo>
                  <a:pt x="16774" y="15830"/>
                  <a:pt x="16839" y="15791"/>
                  <a:pt x="16892" y="15776"/>
                </a:cubicBezTo>
                <a:cubicBezTo>
                  <a:pt x="16943" y="15761"/>
                  <a:pt x="16987" y="15758"/>
                  <a:pt x="17041" y="15751"/>
                </a:cubicBezTo>
                <a:cubicBezTo>
                  <a:pt x="17144" y="15738"/>
                  <a:pt x="17251" y="15759"/>
                  <a:pt x="17338" y="15776"/>
                </a:cubicBezTo>
                <a:cubicBezTo>
                  <a:pt x="17396" y="15787"/>
                  <a:pt x="17455" y="15795"/>
                  <a:pt x="17512" y="15801"/>
                </a:cubicBezTo>
                <a:cubicBezTo>
                  <a:pt x="17560" y="15806"/>
                  <a:pt x="17625" y="15822"/>
                  <a:pt x="17661" y="15825"/>
                </a:cubicBezTo>
                <a:cubicBezTo>
                  <a:pt x="17783" y="15835"/>
                  <a:pt x="17899" y="15825"/>
                  <a:pt x="18008" y="15850"/>
                </a:cubicBezTo>
                <a:cubicBezTo>
                  <a:pt x="18065" y="15863"/>
                  <a:pt x="18095" y="15876"/>
                  <a:pt x="18157" y="15875"/>
                </a:cubicBezTo>
                <a:cubicBezTo>
                  <a:pt x="18210" y="15874"/>
                  <a:pt x="18227" y="15855"/>
                  <a:pt x="18281" y="15850"/>
                </a:cubicBezTo>
                <a:cubicBezTo>
                  <a:pt x="18346" y="15845"/>
                  <a:pt x="18420" y="15829"/>
                  <a:pt x="18479" y="15825"/>
                </a:cubicBezTo>
                <a:cubicBezTo>
                  <a:pt x="18726" y="15807"/>
                  <a:pt x="18980" y="15819"/>
                  <a:pt x="19224" y="15801"/>
                </a:cubicBezTo>
                <a:cubicBezTo>
                  <a:pt x="19375" y="15790"/>
                  <a:pt x="19524" y="15815"/>
                  <a:pt x="19670" y="15825"/>
                </a:cubicBezTo>
                <a:cubicBezTo>
                  <a:pt x="19928" y="15843"/>
                  <a:pt x="20245" y="15830"/>
                  <a:pt x="20464" y="15850"/>
                </a:cubicBezTo>
                <a:cubicBezTo>
                  <a:pt x="20641" y="15866"/>
                  <a:pt x="20846" y="15863"/>
                  <a:pt x="21010" y="15875"/>
                </a:cubicBezTo>
                <a:cubicBezTo>
                  <a:pt x="21113" y="15883"/>
                  <a:pt x="21217" y="15884"/>
                  <a:pt x="21307" y="15900"/>
                </a:cubicBezTo>
                <a:cubicBezTo>
                  <a:pt x="21310" y="15900"/>
                  <a:pt x="21343" y="15872"/>
                  <a:pt x="21382" y="15875"/>
                </a:cubicBezTo>
                <a:cubicBezTo>
                  <a:pt x="21415" y="15878"/>
                  <a:pt x="21423" y="15898"/>
                  <a:pt x="21456" y="15900"/>
                </a:cubicBezTo>
                <a:cubicBezTo>
                  <a:pt x="21495" y="15902"/>
                  <a:pt x="21578" y="15925"/>
                  <a:pt x="21580" y="15925"/>
                </a:cubicBezTo>
                <a:cubicBezTo>
                  <a:pt x="21742" y="15940"/>
                  <a:pt x="21955" y="15911"/>
                  <a:pt x="22076" y="15900"/>
                </a:cubicBezTo>
                <a:cubicBezTo>
                  <a:pt x="22125" y="15895"/>
                  <a:pt x="22176" y="15903"/>
                  <a:pt x="22225" y="15900"/>
                </a:cubicBezTo>
              </a:path>
              <a:path w="6698" h="12428">
                <a:moveTo>
                  <a:pt x="17165" y="7764"/>
                </a:moveTo>
                <a:cubicBezTo>
                  <a:pt x="17165" y="7706"/>
                  <a:pt x="17165" y="7698"/>
                  <a:pt x="17165" y="7640"/>
                </a:cubicBezTo>
                <a:cubicBezTo>
                  <a:pt x="17165" y="7568"/>
                  <a:pt x="17160" y="7401"/>
                  <a:pt x="17115" y="7342"/>
                </a:cubicBezTo>
                <a:cubicBezTo>
                  <a:pt x="17030" y="7229"/>
                  <a:pt x="16841" y="7335"/>
                  <a:pt x="16768" y="7392"/>
                </a:cubicBezTo>
                <a:cubicBezTo>
                  <a:pt x="16568" y="7546"/>
                  <a:pt x="16520" y="7850"/>
                  <a:pt x="16520" y="8086"/>
                </a:cubicBezTo>
                <a:cubicBezTo>
                  <a:pt x="16520" y="8323"/>
                  <a:pt x="16590" y="8570"/>
                  <a:pt x="16570" y="8806"/>
                </a:cubicBezTo>
                <a:cubicBezTo>
                  <a:pt x="16552" y="9016"/>
                  <a:pt x="16584" y="9212"/>
                  <a:pt x="16594" y="9426"/>
                </a:cubicBezTo>
                <a:cubicBezTo>
                  <a:pt x="16603" y="9620"/>
                  <a:pt x="16642" y="9756"/>
                  <a:pt x="16718" y="9922"/>
                </a:cubicBezTo>
                <a:cubicBezTo>
                  <a:pt x="16718" y="9966"/>
                  <a:pt x="16715" y="9980"/>
                  <a:pt x="16743" y="9996"/>
                </a:cubicBezTo>
              </a:path>
              <a:path w="6698" h="12428">
                <a:moveTo>
                  <a:pt x="21183" y="6226"/>
                </a:moveTo>
                <a:cubicBezTo>
                  <a:pt x="21183" y="6271"/>
                  <a:pt x="21179" y="6284"/>
                  <a:pt x="21208" y="6300"/>
                </a:cubicBezTo>
                <a:cubicBezTo>
                  <a:pt x="21181" y="6309"/>
                  <a:pt x="21177" y="6341"/>
                  <a:pt x="21134" y="6325"/>
                </a:cubicBezTo>
                <a:cubicBezTo>
                  <a:pt x="21097" y="6311"/>
                  <a:pt x="21081" y="6300"/>
                  <a:pt x="21034" y="6300"/>
                </a:cubicBezTo>
                <a:cubicBezTo>
                  <a:pt x="21034" y="6248"/>
                  <a:pt x="21019" y="6226"/>
                  <a:pt x="21010" y="6176"/>
                </a:cubicBezTo>
                <a:cubicBezTo>
                  <a:pt x="21001" y="6126"/>
                  <a:pt x="20993" y="6076"/>
                  <a:pt x="20985" y="6028"/>
                </a:cubicBezTo>
                <a:cubicBezTo>
                  <a:pt x="20978" y="5989"/>
                  <a:pt x="20979" y="5913"/>
                  <a:pt x="20960" y="5879"/>
                </a:cubicBezTo>
                <a:cubicBezTo>
                  <a:pt x="20937" y="5837"/>
                  <a:pt x="20935" y="5830"/>
                  <a:pt x="20935" y="5779"/>
                </a:cubicBezTo>
                <a:cubicBezTo>
                  <a:pt x="20935" y="5755"/>
                  <a:pt x="20935" y="5746"/>
                  <a:pt x="20935" y="5730"/>
                </a:cubicBezTo>
                <a:cubicBezTo>
                  <a:pt x="20916" y="5717"/>
                  <a:pt x="20898" y="5667"/>
                  <a:pt x="20886" y="5631"/>
                </a:cubicBezTo>
                <a:cubicBezTo>
                  <a:pt x="20876" y="5600"/>
                  <a:pt x="20864" y="5561"/>
                  <a:pt x="20861" y="5531"/>
                </a:cubicBezTo>
                <a:cubicBezTo>
                  <a:pt x="20861" y="5523"/>
                  <a:pt x="20861" y="5515"/>
                  <a:pt x="20861" y="5507"/>
                </a:cubicBezTo>
                <a:cubicBezTo>
                  <a:pt x="20823" y="5494"/>
                  <a:pt x="20836" y="5477"/>
                  <a:pt x="20836" y="5432"/>
                </a:cubicBezTo>
                <a:cubicBezTo>
                  <a:pt x="20836" y="5424"/>
                  <a:pt x="20836" y="5415"/>
                  <a:pt x="20836" y="5407"/>
                </a:cubicBezTo>
                <a:cubicBezTo>
                  <a:pt x="20815" y="5392"/>
                  <a:pt x="20778" y="5349"/>
                  <a:pt x="20762" y="5308"/>
                </a:cubicBezTo>
                <a:cubicBezTo>
                  <a:pt x="20762" y="5300"/>
                  <a:pt x="20762" y="5291"/>
                  <a:pt x="20762" y="5283"/>
                </a:cubicBezTo>
                <a:cubicBezTo>
                  <a:pt x="20742" y="5270"/>
                  <a:pt x="20724" y="5245"/>
                  <a:pt x="20712" y="5209"/>
                </a:cubicBezTo>
                <a:cubicBezTo>
                  <a:pt x="20712" y="5201"/>
                  <a:pt x="20712" y="5192"/>
                  <a:pt x="20712" y="5184"/>
                </a:cubicBezTo>
              </a:path>
              <a:path w="6698" h="12428">
                <a:moveTo>
                  <a:pt x="21679" y="5135"/>
                </a:moveTo>
                <a:cubicBezTo>
                  <a:pt x="21627" y="5163"/>
                  <a:pt x="21565" y="5203"/>
                  <a:pt x="21506" y="5234"/>
                </a:cubicBezTo>
                <a:cubicBezTo>
                  <a:pt x="21467" y="5255"/>
                  <a:pt x="21444" y="5280"/>
                  <a:pt x="21406" y="5308"/>
                </a:cubicBezTo>
                <a:cubicBezTo>
                  <a:pt x="21353" y="5347"/>
                  <a:pt x="21296" y="5383"/>
                  <a:pt x="21233" y="5407"/>
                </a:cubicBezTo>
                <a:cubicBezTo>
                  <a:pt x="21181" y="5427"/>
                  <a:pt x="21152" y="5436"/>
                  <a:pt x="21109" y="5457"/>
                </a:cubicBezTo>
                <a:cubicBezTo>
                  <a:pt x="21033" y="5494"/>
                  <a:pt x="20972" y="5561"/>
                  <a:pt x="20886" y="5581"/>
                </a:cubicBezTo>
                <a:cubicBezTo>
                  <a:pt x="20816" y="5597"/>
                  <a:pt x="20725" y="5637"/>
                  <a:pt x="20662" y="5680"/>
                </a:cubicBezTo>
                <a:cubicBezTo>
                  <a:pt x="20599" y="5723"/>
                  <a:pt x="20561" y="5763"/>
                  <a:pt x="20489" y="5804"/>
                </a:cubicBezTo>
                <a:cubicBezTo>
                  <a:pt x="20411" y="5848"/>
                  <a:pt x="20343" y="5907"/>
                  <a:pt x="20265" y="5953"/>
                </a:cubicBezTo>
                <a:cubicBezTo>
                  <a:pt x="20184" y="6001"/>
                  <a:pt x="20105" y="6044"/>
                  <a:pt x="20017" y="6077"/>
                </a:cubicBezTo>
                <a:cubicBezTo>
                  <a:pt x="19950" y="6102"/>
                  <a:pt x="19948" y="6096"/>
                  <a:pt x="19893" y="6102"/>
                </a:cubicBezTo>
              </a:path>
              <a:path w="6698" h="12428">
                <a:moveTo>
                  <a:pt x="20464" y="5531"/>
                </a:moveTo>
                <a:cubicBezTo>
                  <a:pt x="20502" y="5553"/>
                  <a:pt x="20526" y="5572"/>
                  <a:pt x="20563" y="5581"/>
                </a:cubicBezTo>
              </a:path>
              <a:path w="6698" h="12428">
                <a:moveTo>
                  <a:pt x="21034" y="5556"/>
                </a:moveTo>
                <a:cubicBezTo>
                  <a:pt x="21109" y="5572"/>
                  <a:pt x="21180" y="5598"/>
                  <a:pt x="21258" y="5606"/>
                </a:cubicBezTo>
                <a:cubicBezTo>
                  <a:pt x="21396" y="5620"/>
                  <a:pt x="21346" y="5583"/>
                  <a:pt x="21431" y="5531"/>
                </a:cubicBezTo>
                <a:cubicBezTo>
                  <a:pt x="21465" y="5510"/>
                  <a:pt x="21553" y="5505"/>
                  <a:pt x="21580" y="5482"/>
                </a:cubicBezTo>
                <a:cubicBezTo>
                  <a:pt x="21605" y="5460"/>
                  <a:pt x="21609" y="5440"/>
                  <a:pt x="21605" y="5407"/>
                </a:cubicBezTo>
                <a:cubicBezTo>
                  <a:pt x="21603" y="5388"/>
                  <a:pt x="21565" y="5310"/>
                  <a:pt x="21555" y="5283"/>
                </a:cubicBezTo>
                <a:cubicBezTo>
                  <a:pt x="21539" y="5240"/>
                  <a:pt x="21505" y="5166"/>
                  <a:pt x="21481" y="5135"/>
                </a:cubicBezTo>
                <a:cubicBezTo>
                  <a:pt x="21414" y="5048"/>
                  <a:pt x="21307" y="4937"/>
                  <a:pt x="21208" y="4887"/>
                </a:cubicBezTo>
                <a:cubicBezTo>
                  <a:pt x="21115" y="4840"/>
                  <a:pt x="21032" y="4781"/>
                  <a:pt x="20935" y="4738"/>
                </a:cubicBezTo>
                <a:cubicBezTo>
                  <a:pt x="20794" y="4675"/>
                  <a:pt x="20633" y="4729"/>
                  <a:pt x="20513" y="4812"/>
                </a:cubicBezTo>
                <a:cubicBezTo>
                  <a:pt x="20378" y="4905"/>
                  <a:pt x="20249" y="5036"/>
                  <a:pt x="20141" y="5159"/>
                </a:cubicBezTo>
                <a:cubicBezTo>
                  <a:pt x="20056" y="5255"/>
                  <a:pt x="19918" y="5398"/>
                  <a:pt x="19893" y="5531"/>
                </a:cubicBezTo>
                <a:cubicBezTo>
                  <a:pt x="19875" y="5628"/>
                  <a:pt x="19895" y="5737"/>
                  <a:pt x="19918" y="5829"/>
                </a:cubicBezTo>
                <a:cubicBezTo>
                  <a:pt x="19939" y="5914"/>
                  <a:pt x="19985" y="6004"/>
                  <a:pt x="20067" y="6052"/>
                </a:cubicBezTo>
                <a:cubicBezTo>
                  <a:pt x="20203" y="6131"/>
                  <a:pt x="20265" y="6243"/>
                  <a:pt x="20365" y="6375"/>
                </a:cubicBezTo>
                <a:cubicBezTo>
                  <a:pt x="20454" y="6492"/>
                  <a:pt x="20491" y="6555"/>
                  <a:pt x="20588" y="6623"/>
                </a:cubicBezTo>
                <a:cubicBezTo>
                  <a:pt x="20658" y="6673"/>
                  <a:pt x="20721" y="6749"/>
                  <a:pt x="20811" y="6747"/>
                </a:cubicBezTo>
                <a:cubicBezTo>
                  <a:pt x="20898" y="6745"/>
                  <a:pt x="21025" y="6683"/>
                  <a:pt x="21109" y="6648"/>
                </a:cubicBezTo>
                <a:cubicBezTo>
                  <a:pt x="21226" y="6599"/>
                  <a:pt x="21312" y="6514"/>
                  <a:pt x="21406" y="6424"/>
                </a:cubicBezTo>
                <a:cubicBezTo>
                  <a:pt x="21470" y="6362"/>
                  <a:pt x="21533" y="6378"/>
                  <a:pt x="21605" y="6325"/>
                </a:cubicBezTo>
                <a:cubicBezTo>
                  <a:pt x="21651" y="6291"/>
                  <a:pt x="21773" y="6237"/>
                  <a:pt x="21803" y="6201"/>
                </a:cubicBezTo>
                <a:cubicBezTo>
                  <a:pt x="21847" y="6147"/>
                  <a:pt x="21880" y="6021"/>
                  <a:pt x="21878" y="5953"/>
                </a:cubicBezTo>
                <a:cubicBezTo>
                  <a:pt x="21875" y="5847"/>
                  <a:pt x="21837" y="5731"/>
                  <a:pt x="21828" y="5631"/>
                </a:cubicBezTo>
                <a:cubicBezTo>
                  <a:pt x="21822" y="5557"/>
                  <a:pt x="21830" y="5520"/>
                  <a:pt x="21803" y="5482"/>
                </a:cubicBezTo>
                <a:cubicBezTo>
                  <a:pt x="21759" y="5420"/>
                  <a:pt x="21686" y="5380"/>
                  <a:pt x="21630" y="5308"/>
                </a:cubicBezTo>
                <a:cubicBezTo>
                  <a:pt x="21581" y="5245"/>
                  <a:pt x="21568" y="5204"/>
                  <a:pt x="21530" y="5135"/>
                </a:cubicBezTo>
              </a:path>
              <a:path w="6698" h="12428">
                <a:moveTo>
                  <a:pt x="19893" y="6052"/>
                </a:moveTo>
                <a:cubicBezTo>
                  <a:pt x="19911" y="6071"/>
                  <a:pt x="19925" y="6081"/>
                  <a:pt x="19943" y="6102"/>
                </a:cubicBezTo>
                <a:cubicBezTo>
                  <a:pt x="19974" y="6138"/>
                  <a:pt x="20006" y="6160"/>
                  <a:pt x="20042" y="6201"/>
                </a:cubicBezTo>
                <a:cubicBezTo>
                  <a:pt x="20073" y="6236"/>
                  <a:pt x="20092" y="6292"/>
                  <a:pt x="20117" y="6325"/>
                </a:cubicBezTo>
                <a:cubicBezTo>
                  <a:pt x="20153" y="6374"/>
                  <a:pt x="20199" y="6445"/>
                  <a:pt x="20241" y="6499"/>
                </a:cubicBezTo>
                <a:cubicBezTo>
                  <a:pt x="20284" y="6554"/>
                  <a:pt x="20292" y="6561"/>
                  <a:pt x="20315" y="6598"/>
                </a:cubicBezTo>
                <a:cubicBezTo>
                  <a:pt x="20330" y="6623"/>
                  <a:pt x="20391" y="6678"/>
                  <a:pt x="20414" y="6722"/>
                </a:cubicBezTo>
                <a:cubicBezTo>
                  <a:pt x="20450" y="6791"/>
                  <a:pt x="20489" y="6924"/>
                  <a:pt x="20513" y="6995"/>
                </a:cubicBezTo>
                <a:cubicBezTo>
                  <a:pt x="20540" y="7075"/>
                  <a:pt x="20555" y="7158"/>
                  <a:pt x="20563" y="7243"/>
                </a:cubicBezTo>
                <a:cubicBezTo>
                  <a:pt x="20577" y="7387"/>
                  <a:pt x="20557" y="7547"/>
                  <a:pt x="20588" y="7689"/>
                </a:cubicBezTo>
                <a:cubicBezTo>
                  <a:pt x="20626" y="7867"/>
                  <a:pt x="20655" y="8001"/>
                  <a:pt x="20662" y="8186"/>
                </a:cubicBezTo>
                <a:cubicBezTo>
                  <a:pt x="20665" y="8278"/>
                  <a:pt x="20667" y="8348"/>
                  <a:pt x="20687" y="8434"/>
                </a:cubicBezTo>
                <a:cubicBezTo>
                  <a:pt x="20702" y="8497"/>
                  <a:pt x="20743" y="8541"/>
                  <a:pt x="20762" y="8607"/>
                </a:cubicBezTo>
                <a:cubicBezTo>
                  <a:pt x="20780" y="8670"/>
                  <a:pt x="20793" y="8739"/>
                  <a:pt x="20811" y="8806"/>
                </a:cubicBezTo>
                <a:cubicBezTo>
                  <a:pt x="20834" y="8893"/>
                  <a:pt x="20865" y="8970"/>
                  <a:pt x="20886" y="9054"/>
                </a:cubicBezTo>
                <a:cubicBezTo>
                  <a:pt x="20905" y="9131"/>
                  <a:pt x="20917" y="9203"/>
                  <a:pt x="20935" y="9277"/>
                </a:cubicBezTo>
                <a:cubicBezTo>
                  <a:pt x="20952" y="9345"/>
                  <a:pt x="20969" y="9409"/>
                  <a:pt x="20985" y="9475"/>
                </a:cubicBezTo>
                <a:cubicBezTo>
                  <a:pt x="21009" y="9571"/>
                  <a:pt x="21014" y="9677"/>
                  <a:pt x="21034" y="9773"/>
                </a:cubicBezTo>
                <a:cubicBezTo>
                  <a:pt x="21057" y="9879"/>
                  <a:pt x="21067" y="9992"/>
                  <a:pt x="21109" y="10096"/>
                </a:cubicBezTo>
                <a:cubicBezTo>
                  <a:pt x="21139" y="10171"/>
                  <a:pt x="21203" y="10249"/>
                  <a:pt x="21233" y="10319"/>
                </a:cubicBezTo>
                <a:cubicBezTo>
                  <a:pt x="21262" y="10387"/>
                  <a:pt x="21319" y="10474"/>
                  <a:pt x="21332" y="10542"/>
                </a:cubicBezTo>
                <a:cubicBezTo>
                  <a:pt x="21363" y="10698"/>
                  <a:pt x="21325" y="10863"/>
                  <a:pt x="21357" y="11013"/>
                </a:cubicBezTo>
                <a:cubicBezTo>
                  <a:pt x="21370" y="11077"/>
                  <a:pt x="21394" y="11126"/>
                  <a:pt x="21406" y="11187"/>
                </a:cubicBezTo>
                <a:cubicBezTo>
                  <a:pt x="21422" y="11268"/>
                  <a:pt x="21438" y="11356"/>
                  <a:pt x="21456" y="11435"/>
                </a:cubicBezTo>
                <a:cubicBezTo>
                  <a:pt x="21472" y="11504"/>
                  <a:pt x="21498" y="11561"/>
                  <a:pt x="21506" y="11633"/>
                </a:cubicBezTo>
                <a:cubicBezTo>
                  <a:pt x="21522" y="11779"/>
                  <a:pt x="21515" y="11916"/>
                  <a:pt x="21530" y="12055"/>
                </a:cubicBezTo>
                <a:cubicBezTo>
                  <a:pt x="21553" y="12266"/>
                  <a:pt x="21571" y="12486"/>
                  <a:pt x="21580" y="12700"/>
                </a:cubicBezTo>
                <a:cubicBezTo>
                  <a:pt x="21582" y="12743"/>
                  <a:pt x="21615" y="12788"/>
                  <a:pt x="21605" y="12849"/>
                </a:cubicBezTo>
                <a:cubicBezTo>
                  <a:pt x="21605" y="12852"/>
                  <a:pt x="21562" y="12939"/>
                  <a:pt x="21555" y="12973"/>
                </a:cubicBezTo>
                <a:cubicBezTo>
                  <a:pt x="21543" y="13032"/>
                  <a:pt x="21522" y="13091"/>
                  <a:pt x="21506" y="13146"/>
                </a:cubicBezTo>
                <a:cubicBezTo>
                  <a:pt x="21483" y="13225"/>
                  <a:pt x="21461" y="13283"/>
                  <a:pt x="21431" y="13370"/>
                </a:cubicBezTo>
                <a:cubicBezTo>
                  <a:pt x="21411" y="13429"/>
                  <a:pt x="21367" y="13530"/>
                  <a:pt x="21357" y="13593"/>
                </a:cubicBezTo>
                <a:cubicBezTo>
                  <a:pt x="21343" y="13684"/>
                  <a:pt x="21360" y="13724"/>
                  <a:pt x="21357" y="13816"/>
                </a:cubicBezTo>
                <a:cubicBezTo>
                  <a:pt x="21353" y="13930"/>
                  <a:pt x="21385" y="14060"/>
                  <a:pt x="21382" y="14163"/>
                </a:cubicBezTo>
                <a:cubicBezTo>
                  <a:pt x="21378" y="14308"/>
                  <a:pt x="21360" y="14441"/>
                  <a:pt x="21357" y="14585"/>
                </a:cubicBezTo>
                <a:cubicBezTo>
                  <a:pt x="21354" y="14697"/>
                  <a:pt x="21336" y="14802"/>
                  <a:pt x="21332" y="14908"/>
                </a:cubicBezTo>
                <a:cubicBezTo>
                  <a:pt x="21329" y="14987"/>
                  <a:pt x="21349" y="15006"/>
                  <a:pt x="21332" y="15081"/>
                </a:cubicBezTo>
                <a:cubicBezTo>
                  <a:pt x="21320" y="15134"/>
                  <a:pt x="21302" y="15150"/>
                  <a:pt x="21282" y="15205"/>
                </a:cubicBezTo>
                <a:cubicBezTo>
                  <a:pt x="21266" y="15250"/>
                  <a:pt x="21251" y="15291"/>
                  <a:pt x="21233" y="15329"/>
                </a:cubicBezTo>
                <a:cubicBezTo>
                  <a:pt x="21204" y="15390"/>
                  <a:pt x="21155" y="15437"/>
                  <a:pt x="21134" y="15503"/>
                </a:cubicBezTo>
                <a:cubicBezTo>
                  <a:pt x="21116" y="15559"/>
                  <a:pt x="21115" y="15606"/>
                  <a:pt x="21109" y="15652"/>
                </a:cubicBezTo>
                <a:cubicBezTo>
                  <a:pt x="21094" y="15764"/>
                  <a:pt x="21103" y="15869"/>
                  <a:pt x="21084" y="15974"/>
                </a:cubicBezTo>
                <a:cubicBezTo>
                  <a:pt x="21072" y="16043"/>
                  <a:pt x="21051" y="16128"/>
                  <a:pt x="21034" y="16197"/>
                </a:cubicBezTo>
                <a:cubicBezTo>
                  <a:pt x="21023" y="16241"/>
                  <a:pt x="20997" y="16297"/>
                  <a:pt x="20985" y="16346"/>
                </a:cubicBezTo>
                <a:cubicBezTo>
                  <a:pt x="20955" y="16464"/>
                  <a:pt x="20901" y="16600"/>
                  <a:pt x="20886" y="16718"/>
                </a:cubicBezTo>
                <a:cubicBezTo>
                  <a:pt x="20869" y="16849"/>
                  <a:pt x="20876" y="16996"/>
                  <a:pt x="20861" y="17115"/>
                </a:cubicBezTo>
                <a:cubicBezTo>
                  <a:pt x="20861" y="17148"/>
                  <a:pt x="20861" y="17148"/>
                  <a:pt x="20861" y="170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19840" y="5473800"/>
            <a:ext cx="2019240" cy="285480"/>
          </a:xfrm>
          <a:custGeom>
            <a:avLst/>
            <a:gdLst/>
            <a:ahLst/>
            <a:rect l="l" t="t" r="r" b="b"/>
            <a:pathLst>
              <a:path w="5606" h="795">
                <a:moveTo>
                  <a:pt x="22051" y="15974"/>
                </a:moveTo>
                <a:cubicBezTo>
                  <a:pt x="22042" y="15934"/>
                  <a:pt x="22039" y="15938"/>
                  <a:pt x="22027" y="15875"/>
                </a:cubicBezTo>
                <a:cubicBezTo>
                  <a:pt x="22005" y="15766"/>
                  <a:pt x="21996" y="15698"/>
                  <a:pt x="21903" y="15627"/>
                </a:cubicBezTo>
                <a:cubicBezTo>
                  <a:pt x="21811" y="15557"/>
                  <a:pt x="21702" y="15518"/>
                  <a:pt x="21580" y="15528"/>
                </a:cubicBezTo>
                <a:cubicBezTo>
                  <a:pt x="21462" y="15537"/>
                  <a:pt x="21349" y="15557"/>
                  <a:pt x="21258" y="15627"/>
                </a:cubicBezTo>
                <a:cubicBezTo>
                  <a:pt x="21187" y="15682"/>
                  <a:pt x="21167" y="15757"/>
                  <a:pt x="21134" y="15825"/>
                </a:cubicBezTo>
                <a:cubicBezTo>
                  <a:pt x="21134" y="15833"/>
                  <a:pt x="21134" y="15842"/>
                  <a:pt x="21134" y="15850"/>
                </a:cubicBezTo>
                <a:cubicBezTo>
                  <a:pt x="21111" y="15752"/>
                  <a:pt x="21106" y="15619"/>
                  <a:pt x="21059" y="15528"/>
                </a:cubicBezTo>
                <a:cubicBezTo>
                  <a:pt x="20996" y="15404"/>
                  <a:pt x="20889" y="15333"/>
                  <a:pt x="20786" y="15280"/>
                </a:cubicBezTo>
                <a:cubicBezTo>
                  <a:pt x="20700" y="15236"/>
                  <a:pt x="20611" y="15215"/>
                  <a:pt x="20513" y="15230"/>
                </a:cubicBezTo>
                <a:cubicBezTo>
                  <a:pt x="20407" y="15246"/>
                  <a:pt x="20307" y="15305"/>
                  <a:pt x="20216" y="15354"/>
                </a:cubicBezTo>
                <a:cubicBezTo>
                  <a:pt x="20144" y="15393"/>
                  <a:pt x="20047" y="15441"/>
                  <a:pt x="19993" y="15503"/>
                </a:cubicBezTo>
                <a:cubicBezTo>
                  <a:pt x="19938" y="15566"/>
                  <a:pt x="19905" y="15658"/>
                  <a:pt x="19869" y="15726"/>
                </a:cubicBezTo>
                <a:cubicBezTo>
                  <a:pt x="19848" y="15645"/>
                  <a:pt x="19833" y="15585"/>
                  <a:pt x="19794" y="15503"/>
                </a:cubicBezTo>
                <a:cubicBezTo>
                  <a:pt x="19740" y="15388"/>
                  <a:pt x="19718" y="15291"/>
                  <a:pt x="19596" y="15230"/>
                </a:cubicBezTo>
                <a:cubicBezTo>
                  <a:pt x="19494" y="15179"/>
                  <a:pt x="19326" y="15221"/>
                  <a:pt x="19224" y="15255"/>
                </a:cubicBezTo>
                <a:cubicBezTo>
                  <a:pt x="19022" y="15322"/>
                  <a:pt x="18979" y="15452"/>
                  <a:pt x="18901" y="15627"/>
                </a:cubicBezTo>
                <a:cubicBezTo>
                  <a:pt x="18875" y="15685"/>
                  <a:pt x="18850" y="15725"/>
                  <a:pt x="18827" y="15776"/>
                </a:cubicBezTo>
                <a:cubicBezTo>
                  <a:pt x="18771" y="15664"/>
                  <a:pt x="18740" y="15579"/>
                  <a:pt x="18628" y="15503"/>
                </a:cubicBezTo>
                <a:cubicBezTo>
                  <a:pt x="18499" y="15415"/>
                  <a:pt x="18336" y="15367"/>
                  <a:pt x="18182" y="15354"/>
                </a:cubicBezTo>
                <a:cubicBezTo>
                  <a:pt x="18005" y="15339"/>
                  <a:pt x="17935" y="15379"/>
                  <a:pt x="17785" y="15453"/>
                </a:cubicBezTo>
                <a:cubicBezTo>
                  <a:pt x="17668" y="15510"/>
                  <a:pt x="17663" y="15532"/>
                  <a:pt x="17636" y="15652"/>
                </a:cubicBezTo>
                <a:cubicBezTo>
                  <a:pt x="17636" y="15730"/>
                  <a:pt x="17651" y="15748"/>
                  <a:pt x="17611" y="15776"/>
                </a:cubicBezTo>
                <a:cubicBezTo>
                  <a:pt x="17566" y="15625"/>
                  <a:pt x="17554" y="15562"/>
                  <a:pt x="17413" y="15478"/>
                </a:cubicBezTo>
                <a:cubicBezTo>
                  <a:pt x="17279" y="15398"/>
                  <a:pt x="17135" y="15421"/>
                  <a:pt x="16991" y="15429"/>
                </a:cubicBezTo>
                <a:cubicBezTo>
                  <a:pt x="16869" y="15436"/>
                  <a:pt x="16728" y="15486"/>
                  <a:pt x="16619" y="15553"/>
                </a:cubicBezTo>
                <a:cubicBezTo>
                  <a:pt x="16457" y="15652"/>
                  <a:pt x="16432" y="15774"/>
                  <a:pt x="16470" y="15949"/>
                </a:cubicBezTo>
                <a:cubicBezTo>
                  <a:pt x="16470" y="15991"/>
                  <a:pt x="16462" y="16007"/>
                  <a:pt x="16495" y="159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4960" y="1866960"/>
            <a:ext cx="276120" cy="696960"/>
          </a:xfrm>
          <a:custGeom>
            <a:avLst/>
            <a:gdLst/>
            <a:ahLst/>
            <a:rect l="l" t="t" r="r" b="b"/>
            <a:pathLst>
              <a:path w="770" h="1936">
                <a:moveTo>
                  <a:pt x="20985" y="7119"/>
                </a:moveTo>
                <a:lnTo>
                  <a:pt x="20985" y="7119"/>
                </a:lnTo>
              </a:path>
              <a:path w="770" h="1936">
                <a:moveTo>
                  <a:pt x="21754" y="5184"/>
                </a:moveTo>
                <a:lnTo>
                  <a:pt x="21754" y="5184"/>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348680" y="2054160"/>
            <a:ext cx="492120" cy="4384800"/>
          </a:xfrm>
          <a:custGeom>
            <a:avLst/>
            <a:gdLst/>
            <a:ahLst/>
            <a:rect l="l" t="t" r="r" b="b"/>
            <a:pathLst>
              <a:path w="1366" h="12180">
                <a:moveTo>
                  <a:pt x="20489" y="17289"/>
                </a:moveTo>
                <a:cubicBezTo>
                  <a:pt x="20618" y="17319"/>
                  <a:pt x="20736" y="17339"/>
                  <a:pt x="20861" y="17388"/>
                </a:cubicBezTo>
                <a:cubicBezTo>
                  <a:pt x="20986" y="17437"/>
                  <a:pt x="21097" y="17517"/>
                  <a:pt x="21233" y="17537"/>
                </a:cubicBezTo>
                <a:cubicBezTo>
                  <a:pt x="21288" y="17545"/>
                  <a:pt x="21351" y="17537"/>
                  <a:pt x="21406" y="17537"/>
                </a:cubicBezTo>
              </a:path>
              <a:path w="1366" h="12180">
                <a:moveTo>
                  <a:pt x="21506" y="16818"/>
                </a:moveTo>
                <a:cubicBezTo>
                  <a:pt x="21377" y="16913"/>
                  <a:pt x="21234" y="17025"/>
                  <a:pt x="21109" y="17140"/>
                </a:cubicBezTo>
                <a:cubicBezTo>
                  <a:pt x="21017" y="17225"/>
                  <a:pt x="20952" y="17337"/>
                  <a:pt x="20861" y="17413"/>
                </a:cubicBezTo>
                <a:cubicBezTo>
                  <a:pt x="20826" y="17443"/>
                  <a:pt x="20806" y="17472"/>
                  <a:pt x="20786" y="17487"/>
                </a:cubicBezTo>
                <a:cubicBezTo>
                  <a:pt x="20767" y="17501"/>
                  <a:pt x="20691" y="17549"/>
                  <a:pt x="20687" y="17562"/>
                </a:cubicBezTo>
                <a:cubicBezTo>
                  <a:pt x="20670" y="17613"/>
                  <a:pt x="20662" y="17635"/>
                  <a:pt x="20613" y="17686"/>
                </a:cubicBezTo>
                <a:cubicBezTo>
                  <a:pt x="20566" y="17735"/>
                  <a:pt x="20495" y="17791"/>
                  <a:pt x="20464" y="17835"/>
                </a:cubicBezTo>
                <a:cubicBezTo>
                  <a:pt x="20444" y="17875"/>
                  <a:pt x="20445" y="17891"/>
                  <a:pt x="20414" y="17884"/>
                </a:cubicBezTo>
              </a:path>
              <a:path w="1366" h="12180">
                <a:moveTo>
                  <a:pt x="21332" y="16644"/>
                </a:moveTo>
                <a:cubicBezTo>
                  <a:pt x="21266" y="16620"/>
                  <a:pt x="21214" y="16597"/>
                  <a:pt x="21134" y="16594"/>
                </a:cubicBezTo>
                <a:cubicBezTo>
                  <a:pt x="20945" y="16588"/>
                  <a:pt x="20944" y="16641"/>
                  <a:pt x="20836" y="16768"/>
                </a:cubicBezTo>
                <a:cubicBezTo>
                  <a:pt x="20773" y="16842"/>
                  <a:pt x="20722" y="16919"/>
                  <a:pt x="20662" y="16991"/>
                </a:cubicBezTo>
                <a:cubicBezTo>
                  <a:pt x="20607" y="17058"/>
                  <a:pt x="20603" y="17094"/>
                  <a:pt x="20563" y="17165"/>
                </a:cubicBezTo>
                <a:cubicBezTo>
                  <a:pt x="20528" y="17226"/>
                  <a:pt x="20512" y="17271"/>
                  <a:pt x="20489" y="17338"/>
                </a:cubicBezTo>
                <a:cubicBezTo>
                  <a:pt x="20479" y="17366"/>
                  <a:pt x="20437" y="17452"/>
                  <a:pt x="20439" y="17487"/>
                </a:cubicBezTo>
                <a:cubicBezTo>
                  <a:pt x="20444" y="17564"/>
                  <a:pt x="20477" y="17637"/>
                  <a:pt x="20538" y="17686"/>
                </a:cubicBezTo>
                <a:cubicBezTo>
                  <a:pt x="20593" y="17731"/>
                  <a:pt x="20643" y="17779"/>
                  <a:pt x="20712" y="17785"/>
                </a:cubicBezTo>
                <a:cubicBezTo>
                  <a:pt x="20819" y="17794"/>
                  <a:pt x="20912" y="17777"/>
                  <a:pt x="21010" y="17760"/>
                </a:cubicBezTo>
                <a:cubicBezTo>
                  <a:pt x="21095" y="17746"/>
                  <a:pt x="21174" y="17757"/>
                  <a:pt x="21258" y="17735"/>
                </a:cubicBezTo>
                <a:cubicBezTo>
                  <a:pt x="21317" y="17720"/>
                  <a:pt x="21391" y="17700"/>
                  <a:pt x="21431" y="17661"/>
                </a:cubicBezTo>
                <a:cubicBezTo>
                  <a:pt x="21501" y="17592"/>
                  <a:pt x="21578" y="17471"/>
                  <a:pt x="21630" y="17388"/>
                </a:cubicBezTo>
                <a:cubicBezTo>
                  <a:pt x="21666" y="17331"/>
                  <a:pt x="21698" y="17275"/>
                  <a:pt x="21729" y="17214"/>
                </a:cubicBezTo>
                <a:cubicBezTo>
                  <a:pt x="21771" y="17130"/>
                  <a:pt x="21779" y="17089"/>
                  <a:pt x="21779" y="16991"/>
                </a:cubicBezTo>
                <a:cubicBezTo>
                  <a:pt x="21779" y="16922"/>
                  <a:pt x="21742" y="16882"/>
                  <a:pt x="21729" y="16818"/>
                </a:cubicBezTo>
                <a:cubicBezTo>
                  <a:pt x="21720" y="16777"/>
                  <a:pt x="21696" y="16709"/>
                  <a:pt x="21654" y="16669"/>
                </a:cubicBezTo>
                <a:cubicBezTo>
                  <a:pt x="21593" y="16611"/>
                  <a:pt x="21538" y="16597"/>
                  <a:pt x="21456" y="16594"/>
                </a:cubicBezTo>
                <a:cubicBezTo>
                  <a:pt x="21382" y="16591"/>
                  <a:pt x="21319" y="16592"/>
                  <a:pt x="21282" y="16619"/>
                </a:cubicBezTo>
                <a:cubicBezTo>
                  <a:pt x="21252" y="16641"/>
                  <a:pt x="21228" y="16678"/>
                  <a:pt x="21208" y="16718"/>
                </a:cubicBezTo>
              </a:path>
              <a:path w="1366" h="12180">
                <a:moveTo>
                  <a:pt x="20985" y="5705"/>
                </a:moveTo>
                <a:cubicBezTo>
                  <a:pt x="21047" y="5760"/>
                  <a:pt x="21142" y="5806"/>
                  <a:pt x="21208" y="5879"/>
                </a:cubicBezTo>
                <a:cubicBezTo>
                  <a:pt x="21399" y="6088"/>
                  <a:pt x="21485" y="6259"/>
                  <a:pt x="21456" y="6548"/>
                </a:cubicBezTo>
                <a:cubicBezTo>
                  <a:pt x="21441" y="6700"/>
                  <a:pt x="21362" y="6807"/>
                  <a:pt x="21282" y="6921"/>
                </a:cubicBezTo>
                <a:cubicBezTo>
                  <a:pt x="21232" y="6992"/>
                  <a:pt x="21030" y="7129"/>
                  <a:pt x="21010" y="7193"/>
                </a:cubicBezTo>
                <a:cubicBezTo>
                  <a:pt x="20978" y="7298"/>
                  <a:pt x="20994" y="7119"/>
                  <a:pt x="21034" y="7193"/>
                </a:cubicBezTo>
                <a:cubicBezTo>
                  <a:pt x="21047" y="7216"/>
                  <a:pt x="21170" y="7282"/>
                  <a:pt x="21208" y="7342"/>
                </a:cubicBezTo>
                <a:cubicBezTo>
                  <a:pt x="21345" y="7557"/>
                  <a:pt x="21394" y="7761"/>
                  <a:pt x="21332" y="8012"/>
                </a:cubicBezTo>
                <a:cubicBezTo>
                  <a:pt x="21300" y="8142"/>
                  <a:pt x="21245" y="8156"/>
                  <a:pt x="21183" y="8260"/>
                </a:cubicBezTo>
                <a:cubicBezTo>
                  <a:pt x="21140" y="8332"/>
                  <a:pt x="21081" y="8408"/>
                  <a:pt x="21034" y="8483"/>
                </a:cubicBezTo>
                <a:cubicBezTo>
                  <a:pt x="21034" y="8491"/>
                  <a:pt x="21034" y="8500"/>
                  <a:pt x="21034" y="8508"/>
                </a:cubicBezTo>
                <a:cubicBezTo>
                  <a:pt x="21123" y="8526"/>
                  <a:pt x="21193" y="8440"/>
                  <a:pt x="21282" y="8508"/>
                </a:cubicBezTo>
                <a:cubicBezTo>
                  <a:pt x="21370" y="8575"/>
                  <a:pt x="21376" y="8672"/>
                  <a:pt x="21406" y="8781"/>
                </a:cubicBezTo>
                <a:cubicBezTo>
                  <a:pt x="21441" y="8911"/>
                  <a:pt x="21428" y="9026"/>
                  <a:pt x="21406" y="9153"/>
                </a:cubicBezTo>
                <a:cubicBezTo>
                  <a:pt x="21383" y="9289"/>
                  <a:pt x="21358" y="9447"/>
                  <a:pt x="21307" y="9575"/>
                </a:cubicBezTo>
                <a:cubicBezTo>
                  <a:pt x="21265" y="9679"/>
                  <a:pt x="21200" y="9768"/>
                  <a:pt x="21158" y="9872"/>
                </a:cubicBezTo>
                <a:cubicBezTo>
                  <a:pt x="21137" y="9924"/>
                  <a:pt x="21139" y="9966"/>
                  <a:pt x="21109" y="10021"/>
                </a:cubicBezTo>
                <a:cubicBezTo>
                  <a:pt x="21089" y="10062"/>
                  <a:pt x="21091" y="10078"/>
                  <a:pt x="21059" y="10071"/>
                </a:cubicBezTo>
                <a:cubicBezTo>
                  <a:pt x="21097" y="10077"/>
                  <a:pt x="21121" y="10065"/>
                  <a:pt x="21158" y="10071"/>
                </a:cubicBezTo>
                <a:cubicBezTo>
                  <a:pt x="21277" y="10090"/>
                  <a:pt x="21301" y="10094"/>
                  <a:pt x="21382" y="10170"/>
                </a:cubicBezTo>
                <a:cubicBezTo>
                  <a:pt x="21465" y="10247"/>
                  <a:pt x="21510" y="10355"/>
                  <a:pt x="21530" y="10468"/>
                </a:cubicBezTo>
                <a:cubicBezTo>
                  <a:pt x="21577" y="10728"/>
                  <a:pt x="21504" y="10945"/>
                  <a:pt x="21382" y="11162"/>
                </a:cubicBezTo>
                <a:cubicBezTo>
                  <a:pt x="21334" y="11248"/>
                  <a:pt x="21226" y="11325"/>
                  <a:pt x="21183" y="11410"/>
                </a:cubicBezTo>
                <a:cubicBezTo>
                  <a:pt x="21164" y="11448"/>
                  <a:pt x="21175" y="11503"/>
                  <a:pt x="21158" y="11534"/>
                </a:cubicBezTo>
                <a:cubicBezTo>
                  <a:pt x="21259" y="11570"/>
                  <a:pt x="21292" y="11469"/>
                  <a:pt x="21382" y="11559"/>
                </a:cubicBezTo>
                <a:cubicBezTo>
                  <a:pt x="21492" y="11669"/>
                  <a:pt x="21511" y="11858"/>
                  <a:pt x="21530" y="12005"/>
                </a:cubicBezTo>
                <a:cubicBezTo>
                  <a:pt x="21549" y="12152"/>
                  <a:pt x="21511" y="12250"/>
                  <a:pt x="21456" y="12378"/>
                </a:cubicBezTo>
                <a:cubicBezTo>
                  <a:pt x="21407" y="12491"/>
                  <a:pt x="21343" y="12592"/>
                  <a:pt x="21282" y="12700"/>
                </a:cubicBezTo>
                <a:cubicBezTo>
                  <a:pt x="21243" y="12770"/>
                  <a:pt x="21167" y="12841"/>
                  <a:pt x="21134" y="12898"/>
                </a:cubicBezTo>
                <a:cubicBezTo>
                  <a:pt x="21119" y="12924"/>
                  <a:pt x="21118" y="12959"/>
                  <a:pt x="21109" y="12973"/>
                </a:cubicBezTo>
                <a:cubicBezTo>
                  <a:pt x="21148" y="13005"/>
                  <a:pt x="21228" y="12980"/>
                  <a:pt x="21258" y="13022"/>
                </a:cubicBezTo>
                <a:cubicBezTo>
                  <a:pt x="21346" y="13144"/>
                  <a:pt x="21357" y="13255"/>
                  <a:pt x="21382" y="13395"/>
                </a:cubicBezTo>
                <a:cubicBezTo>
                  <a:pt x="21411" y="13555"/>
                  <a:pt x="21417" y="13732"/>
                  <a:pt x="21382" y="13891"/>
                </a:cubicBezTo>
                <a:cubicBezTo>
                  <a:pt x="21353" y="14025"/>
                  <a:pt x="21279" y="14138"/>
                  <a:pt x="21233" y="14263"/>
                </a:cubicBezTo>
                <a:cubicBezTo>
                  <a:pt x="21206" y="14338"/>
                  <a:pt x="21196" y="14442"/>
                  <a:pt x="21158" y="14511"/>
                </a:cubicBezTo>
                <a:cubicBezTo>
                  <a:pt x="21133" y="14556"/>
                  <a:pt x="21049" y="14633"/>
                  <a:pt x="21034" y="14660"/>
                </a:cubicBezTo>
                <a:cubicBezTo>
                  <a:pt x="21034" y="14668"/>
                  <a:pt x="21034" y="14676"/>
                  <a:pt x="21034" y="14684"/>
                </a:cubicBezTo>
                <a:cubicBezTo>
                  <a:pt x="21062" y="14685"/>
                  <a:pt x="21080" y="14635"/>
                  <a:pt x="21084" y="14635"/>
                </a:cubicBezTo>
                <a:cubicBezTo>
                  <a:pt x="21156" y="14637"/>
                  <a:pt x="21110" y="14594"/>
                  <a:pt x="21183" y="14635"/>
                </a:cubicBezTo>
                <a:cubicBezTo>
                  <a:pt x="21288" y="14695"/>
                  <a:pt x="21343" y="14758"/>
                  <a:pt x="21382" y="14883"/>
                </a:cubicBezTo>
                <a:cubicBezTo>
                  <a:pt x="21452" y="15108"/>
                  <a:pt x="21360" y="15414"/>
                  <a:pt x="21258" y="15602"/>
                </a:cubicBezTo>
                <a:cubicBezTo>
                  <a:pt x="21215" y="15681"/>
                  <a:pt x="21159" y="15779"/>
                  <a:pt x="21109" y="15850"/>
                </a:cubicBezTo>
                <a:cubicBezTo>
                  <a:pt x="21084" y="15875"/>
                  <a:pt x="21076" y="15883"/>
                  <a:pt x="21059" y="15900"/>
                </a:cubicBezTo>
                <a:cubicBezTo>
                  <a:pt x="21106" y="15939"/>
                  <a:pt x="21142" y="15965"/>
                  <a:pt x="21183" y="15999"/>
                </a:cubicBezTo>
                <a:cubicBezTo>
                  <a:pt x="21312" y="16109"/>
                  <a:pt x="21353" y="16126"/>
                  <a:pt x="21382" y="16297"/>
                </a:cubicBezTo>
                <a:cubicBezTo>
                  <a:pt x="21403" y="16424"/>
                  <a:pt x="21386" y="16621"/>
                  <a:pt x="21357" y="16743"/>
                </a:cubicBezTo>
                <a:cubicBezTo>
                  <a:pt x="21325" y="16878"/>
                  <a:pt x="21240" y="17012"/>
                  <a:pt x="21183" y="17140"/>
                </a:cubicBezTo>
                <a:cubicBezTo>
                  <a:pt x="21150" y="17213"/>
                  <a:pt x="21117" y="17272"/>
                  <a:pt x="21084" y="173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554360" y="2554200"/>
            <a:ext cx="3081600" cy="893880"/>
          </a:xfrm>
          <a:custGeom>
            <a:avLst/>
            <a:gdLst/>
            <a:ahLst/>
            <a:rect l="l" t="t" r="r" b="b"/>
            <a:pathLst>
              <a:path w="8559" h="2482">
                <a:moveTo>
                  <a:pt x="12849" y="7094"/>
                </a:moveTo>
                <a:cubicBezTo>
                  <a:pt x="12870" y="7176"/>
                  <a:pt x="12878" y="7192"/>
                  <a:pt x="12874" y="7243"/>
                </a:cubicBezTo>
                <a:cubicBezTo>
                  <a:pt x="12795" y="7227"/>
                  <a:pt x="12723" y="7180"/>
                  <a:pt x="12650" y="7144"/>
                </a:cubicBezTo>
              </a:path>
              <a:path w="8559" h="2482">
                <a:moveTo>
                  <a:pt x="13246" y="8111"/>
                </a:moveTo>
                <a:cubicBezTo>
                  <a:pt x="13320" y="8136"/>
                  <a:pt x="13395" y="8161"/>
                  <a:pt x="13469" y="8186"/>
                </a:cubicBezTo>
              </a:path>
              <a:path w="8559" h="2482">
                <a:moveTo>
                  <a:pt x="15404" y="8657"/>
                </a:moveTo>
                <a:cubicBezTo>
                  <a:pt x="15723" y="8828"/>
                  <a:pt x="15827" y="8885"/>
                  <a:pt x="16049" y="8979"/>
                </a:cubicBezTo>
              </a:path>
              <a:path w="8559" h="2482">
                <a:moveTo>
                  <a:pt x="20811" y="9575"/>
                </a:moveTo>
                <a:cubicBezTo>
                  <a:pt x="20943" y="9534"/>
                  <a:pt x="21076" y="9492"/>
                  <a:pt x="21208" y="94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277040" y="1955880"/>
            <a:ext cx="19080" cy="9360"/>
          </a:xfrm>
          <a:custGeom>
            <a:avLst/>
            <a:gdLst/>
            <a:ahLst/>
            <a:rect l="l" t="t" r="r" b="b"/>
            <a:pathLst>
              <a:path w="50" h="26">
                <a:moveTo>
                  <a:pt x="20216" y="5432"/>
                </a:moveTo>
                <a:cubicBezTo>
                  <a:pt x="20238" y="5454"/>
                  <a:pt x="20243" y="5463"/>
                  <a:pt x="20265" y="5457"/>
                </a:cubicBezTo>
              </a:path>
            </a:pathLst>
          </a:custGeom>
          <a:noFill/>
          <a:ln cap="rnd" w="3492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1" name=""/>
          <p:cNvSpPr/>
          <p:nvPr/>
        </p:nvSpPr>
        <p:spPr>
          <a:xfrm>
            <a:off x="6892920" y="1017720"/>
            <a:ext cx="179280" cy="260280"/>
          </a:xfrm>
          <a:custGeom>
            <a:avLst/>
            <a:gdLst/>
            <a:ahLst/>
            <a:rect l="l" t="t" r="r" b="b"/>
            <a:pathLst>
              <a:path w="497" h="720">
                <a:moveTo>
                  <a:pt x="19645" y="2952"/>
                </a:moveTo>
                <a:cubicBezTo>
                  <a:pt x="19575" y="2928"/>
                  <a:pt x="19494" y="2902"/>
                  <a:pt x="19422" y="2877"/>
                </a:cubicBezTo>
                <a:cubicBezTo>
                  <a:pt x="19364" y="2857"/>
                  <a:pt x="19308" y="2840"/>
                  <a:pt x="19248" y="2828"/>
                </a:cubicBezTo>
                <a:cubicBezTo>
                  <a:pt x="19237" y="2883"/>
                  <a:pt x="19237" y="2946"/>
                  <a:pt x="19224" y="3001"/>
                </a:cubicBezTo>
                <a:cubicBezTo>
                  <a:pt x="19213" y="3047"/>
                  <a:pt x="19213" y="3158"/>
                  <a:pt x="19199" y="3200"/>
                </a:cubicBezTo>
                <a:cubicBezTo>
                  <a:pt x="19186" y="3239"/>
                  <a:pt x="19174" y="3228"/>
                  <a:pt x="19174" y="3274"/>
                </a:cubicBezTo>
                <a:cubicBezTo>
                  <a:pt x="19233" y="3262"/>
                  <a:pt x="19286" y="3231"/>
                  <a:pt x="19348" y="3225"/>
                </a:cubicBezTo>
                <a:cubicBezTo>
                  <a:pt x="19418" y="3219"/>
                  <a:pt x="19439" y="3257"/>
                  <a:pt x="19472" y="3299"/>
                </a:cubicBezTo>
                <a:cubicBezTo>
                  <a:pt x="19508" y="3344"/>
                  <a:pt x="19496" y="3389"/>
                  <a:pt x="19496" y="3448"/>
                </a:cubicBezTo>
                <a:cubicBezTo>
                  <a:pt x="19496" y="3493"/>
                  <a:pt x="19445" y="3499"/>
                  <a:pt x="19397" y="3522"/>
                </a:cubicBezTo>
                <a:cubicBezTo>
                  <a:pt x="19317" y="3560"/>
                  <a:pt x="19302" y="3530"/>
                  <a:pt x="19224" y="3522"/>
                </a:cubicBezTo>
                <a:cubicBezTo>
                  <a:pt x="19192" y="3519"/>
                  <a:pt x="19180" y="3505"/>
                  <a:pt x="19149" y="34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96080" y="1509840"/>
            <a:ext cx="214200" cy="731880"/>
          </a:xfrm>
          <a:custGeom>
            <a:avLst/>
            <a:gdLst/>
            <a:ahLst/>
            <a:rect l="l" t="t" r="r" b="b"/>
            <a:pathLst>
              <a:path w="597" h="2035">
                <a:moveTo>
                  <a:pt x="18901" y="5655"/>
                </a:moveTo>
                <a:cubicBezTo>
                  <a:pt x="18868" y="5655"/>
                  <a:pt x="18894" y="5639"/>
                  <a:pt x="18926" y="5631"/>
                </a:cubicBezTo>
                <a:cubicBezTo>
                  <a:pt x="19056" y="5597"/>
                  <a:pt x="19256" y="5634"/>
                  <a:pt x="19372" y="5655"/>
                </a:cubicBezTo>
                <a:cubicBezTo>
                  <a:pt x="19455" y="5670"/>
                  <a:pt x="19466" y="5651"/>
                  <a:pt x="19472" y="5755"/>
                </a:cubicBezTo>
                <a:cubicBezTo>
                  <a:pt x="19476" y="5829"/>
                  <a:pt x="19415" y="5858"/>
                  <a:pt x="19348" y="5879"/>
                </a:cubicBezTo>
                <a:cubicBezTo>
                  <a:pt x="19296" y="5895"/>
                  <a:pt x="19111" y="5888"/>
                  <a:pt x="19100" y="5854"/>
                </a:cubicBezTo>
                <a:cubicBezTo>
                  <a:pt x="19156" y="5854"/>
                  <a:pt x="19179" y="5853"/>
                  <a:pt x="19224" y="5879"/>
                </a:cubicBezTo>
                <a:cubicBezTo>
                  <a:pt x="19283" y="5913"/>
                  <a:pt x="19345" y="5916"/>
                  <a:pt x="19397" y="5953"/>
                </a:cubicBezTo>
                <a:cubicBezTo>
                  <a:pt x="19418" y="5968"/>
                  <a:pt x="19485" y="6023"/>
                  <a:pt x="19472" y="6052"/>
                </a:cubicBezTo>
                <a:cubicBezTo>
                  <a:pt x="19457" y="6086"/>
                  <a:pt x="19406" y="6136"/>
                  <a:pt x="19397" y="6152"/>
                </a:cubicBezTo>
                <a:cubicBezTo>
                  <a:pt x="19394" y="6157"/>
                  <a:pt x="19324" y="6219"/>
                  <a:pt x="19298" y="6226"/>
                </a:cubicBezTo>
                <a:cubicBezTo>
                  <a:pt x="19237" y="6243"/>
                  <a:pt x="19178" y="6214"/>
                  <a:pt x="19124" y="6201"/>
                </a:cubicBezTo>
                <a:cubicBezTo>
                  <a:pt x="19099" y="6195"/>
                  <a:pt x="19039" y="6179"/>
                  <a:pt x="19025" y="6152"/>
                </a:cubicBezTo>
                <a:cubicBezTo>
                  <a:pt x="19025" y="6144"/>
                  <a:pt x="19025" y="6135"/>
                  <a:pt x="19025" y="6127"/>
                </a:cubicBezTo>
              </a:path>
              <a:path w="597" h="2035">
                <a:moveTo>
                  <a:pt x="19075" y="4192"/>
                </a:moveTo>
                <a:cubicBezTo>
                  <a:pt x="19037" y="4205"/>
                  <a:pt x="19050" y="4221"/>
                  <a:pt x="19050" y="4266"/>
                </a:cubicBezTo>
                <a:cubicBezTo>
                  <a:pt x="19050" y="4337"/>
                  <a:pt x="19010" y="4417"/>
                  <a:pt x="19000" y="4490"/>
                </a:cubicBezTo>
                <a:cubicBezTo>
                  <a:pt x="18991" y="4557"/>
                  <a:pt x="18981" y="4622"/>
                  <a:pt x="18976" y="4688"/>
                </a:cubicBezTo>
                <a:cubicBezTo>
                  <a:pt x="18973" y="4732"/>
                  <a:pt x="18976" y="4759"/>
                  <a:pt x="19025" y="4762"/>
                </a:cubicBezTo>
                <a:cubicBezTo>
                  <a:pt x="19097" y="4767"/>
                  <a:pt x="19075" y="4783"/>
                  <a:pt x="19124" y="4762"/>
                </a:cubicBezTo>
                <a:cubicBezTo>
                  <a:pt x="19186" y="4735"/>
                  <a:pt x="19329" y="4762"/>
                  <a:pt x="19397" y="4762"/>
                </a:cubicBezTo>
                <a:cubicBezTo>
                  <a:pt x="19405" y="4701"/>
                  <a:pt x="19422" y="4653"/>
                  <a:pt x="19422" y="4589"/>
                </a:cubicBezTo>
                <a:cubicBezTo>
                  <a:pt x="19422" y="4552"/>
                  <a:pt x="19422" y="4372"/>
                  <a:pt x="19422" y="4415"/>
                </a:cubicBezTo>
                <a:cubicBezTo>
                  <a:pt x="19422" y="4545"/>
                  <a:pt x="19413" y="4662"/>
                  <a:pt x="19397" y="4787"/>
                </a:cubicBezTo>
                <a:cubicBezTo>
                  <a:pt x="19388" y="4858"/>
                  <a:pt x="19392" y="4902"/>
                  <a:pt x="19372" y="4961"/>
                </a:cubicBezTo>
                <a:cubicBezTo>
                  <a:pt x="19359" y="5000"/>
                  <a:pt x="19372" y="5068"/>
                  <a:pt x="19372" y="51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67360" y="2536920"/>
            <a:ext cx="150840" cy="303120"/>
          </a:xfrm>
          <a:custGeom>
            <a:avLst/>
            <a:gdLst/>
            <a:ahLst/>
            <a:rect l="l" t="t" r="r" b="b"/>
            <a:pathLst>
              <a:path w="422" h="844">
                <a:moveTo>
                  <a:pt x="19100" y="7045"/>
                </a:moveTo>
                <a:cubicBezTo>
                  <a:pt x="19033" y="7045"/>
                  <a:pt x="19165" y="7066"/>
                  <a:pt x="19174" y="7069"/>
                </a:cubicBezTo>
                <a:cubicBezTo>
                  <a:pt x="19232" y="7090"/>
                  <a:pt x="19294" y="7111"/>
                  <a:pt x="19348" y="7144"/>
                </a:cubicBezTo>
                <a:cubicBezTo>
                  <a:pt x="19398" y="7174"/>
                  <a:pt x="19440" y="7246"/>
                  <a:pt x="19472" y="7268"/>
                </a:cubicBezTo>
                <a:cubicBezTo>
                  <a:pt x="19520" y="7301"/>
                  <a:pt x="19444" y="7396"/>
                  <a:pt x="19397" y="7441"/>
                </a:cubicBezTo>
                <a:cubicBezTo>
                  <a:pt x="19339" y="7497"/>
                  <a:pt x="19191" y="7550"/>
                  <a:pt x="19149" y="7615"/>
                </a:cubicBezTo>
                <a:cubicBezTo>
                  <a:pt x="19121" y="7659"/>
                  <a:pt x="19100" y="7701"/>
                  <a:pt x="19100" y="7764"/>
                </a:cubicBezTo>
                <a:cubicBezTo>
                  <a:pt x="19100" y="7823"/>
                  <a:pt x="19198" y="7855"/>
                  <a:pt x="19248" y="7863"/>
                </a:cubicBezTo>
                <a:cubicBezTo>
                  <a:pt x="19306" y="7873"/>
                  <a:pt x="19363" y="7888"/>
                  <a:pt x="19422" y="7888"/>
                </a:cubicBezTo>
                <a:cubicBezTo>
                  <a:pt x="19430" y="7888"/>
                  <a:pt x="19439" y="7888"/>
                  <a:pt x="19447" y="78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929280" y="3098880"/>
            <a:ext cx="9720" cy="276120"/>
          </a:xfrm>
          <a:custGeom>
            <a:avLst/>
            <a:gdLst/>
            <a:ahLst/>
            <a:rect l="l" t="t" r="r" b="b"/>
            <a:pathLst>
              <a:path w="26" h="770">
                <a:moveTo>
                  <a:pt x="19273" y="8607"/>
                </a:moveTo>
                <a:cubicBezTo>
                  <a:pt x="19246" y="8616"/>
                  <a:pt x="19234" y="8643"/>
                  <a:pt x="19248" y="8682"/>
                </a:cubicBezTo>
                <a:cubicBezTo>
                  <a:pt x="19281" y="8773"/>
                  <a:pt x="19264" y="8741"/>
                  <a:pt x="19248" y="8830"/>
                </a:cubicBezTo>
                <a:cubicBezTo>
                  <a:pt x="19234" y="8909"/>
                  <a:pt x="19259" y="8989"/>
                  <a:pt x="19273" y="9054"/>
                </a:cubicBezTo>
                <a:cubicBezTo>
                  <a:pt x="19288" y="9125"/>
                  <a:pt x="19273" y="9362"/>
                  <a:pt x="19273" y="93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867360" y="4071960"/>
            <a:ext cx="187560" cy="233280"/>
          </a:xfrm>
          <a:custGeom>
            <a:avLst/>
            <a:gdLst/>
            <a:ahLst/>
            <a:rect l="l" t="t" r="r" b="b"/>
            <a:pathLst>
              <a:path w="522" h="646">
                <a:moveTo>
                  <a:pt x="19075" y="11584"/>
                </a:moveTo>
                <a:cubicBezTo>
                  <a:pt x="19075" y="11576"/>
                  <a:pt x="19075" y="11567"/>
                  <a:pt x="19075" y="11559"/>
                </a:cubicBezTo>
                <a:cubicBezTo>
                  <a:pt x="19151" y="11559"/>
                  <a:pt x="19202" y="11566"/>
                  <a:pt x="19273" y="11584"/>
                </a:cubicBezTo>
                <a:cubicBezTo>
                  <a:pt x="19294" y="11589"/>
                  <a:pt x="19326" y="11584"/>
                  <a:pt x="19348" y="11584"/>
                </a:cubicBezTo>
              </a:path>
              <a:path w="522" h="646">
                <a:moveTo>
                  <a:pt x="19596" y="11311"/>
                </a:moveTo>
                <a:cubicBezTo>
                  <a:pt x="19596" y="11370"/>
                  <a:pt x="19580" y="11414"/>
                  <a:pt x="19571" y="11460"/>
                </a:cubicBezTo>
                <a:cubicBezTo>
                  <a:pt x="19562" y="11502"/>
                  <a:pt x="19561" y="11544"/>
                  <a:pt x="19546" y="11584"/>
                </a:cubicBezTo>
                <a:cubicBezTo>
                  <a:pt x="19527" y="11637"/>
                  <a:pt x="19521" y="11653"/>
                  <a:pt x="19521" y="11708"/>
                </a:cubicBezTo>
                <a:cubicBezTo>
                  <a:pt x="19521" y="11758"/>
                  <a:pt x="19510" y="11766"/>
                  <a:pt x="19496" y="11807"/>
                </a:cubicBezTo>
                <a:cubicBezTo>
                  <a:pt x="19483" y="11846"/>
                  <a:pt x="19496" y="11916"/>
                  <a:pt x="19496" y="119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823080" y="4545000"/>
            <a:ext cx="293760" cy="322200"/>
          </a:xfrm>
          <a:custGeom>
            <a:avLst/>
            <a:gdLst/>
            <a:ahLst/>
            <a:rect l="l" t="t" r="r" b="b"/>
            <a:pathLst>
              <a:path w="819" h="894">
                <a:moveTo>
                  <a:pt x="18951" y="13022"/>
                </a:moveTo>
                <a:cubicBezTo>
                  <a:pt x="19030" y="13022"/>
                  <a:pt x="19329" y="12991"/>
                  <a:pt x="19348" y="13047"/>
                </a:cubicBezTo>
              </a:path>
              <a:path w="819" h="894">
                <a:moveTo>
                  <a:pt x="19496" y="12626"/>
                </a:moveTo>
                <a:cubicBezTo>
                  <a:pt x="19529" y="12626"/>
                  <a:pt x="19577" y="12613"/>
                  <a:pt x="19596" y="12650"/>
                </a:cubicBezTo>
                <a:cubicBezTo>
                  <a:pt x="19638" y="12733"/>
                  <a:pt x="19622" y="12678"/>
                  <a:pt x="19695" y="12750"/>
                </a:cubicBezTo>
                <a:cubicBezTo>
                  <a:pt x="19715" y="12770"/>
                  <a:pt x="19725" y="12815"/>
                  <a:pt x="19745" y="12849"/>
                </a:cubicBezTo>
                <a:cubicBezTo>
                  <a:pt x="19767" y="12871"/>
                  <a:pt x="19775" y="12876"/>
                  <a:pt x="19769" y="12898"/>
                </a:cubicBezTo>
                <a:cubicBezTo>
                  <a:pt x="19727" y="12955"/>
                  <a:pt x="19623" y="12967"/>
                  <a:pt x="19546" y="12998"/>
                </a:cubicBezTo>
                <a:cubicBezTo>
                  <a:pt x="19478" y="13025"/>
                  <a:pt x="19462" y="13048"/>
                  <a:pt x="19422" y="13097"/>
                </a:cubicBezTo>
                <a:cubicBezTo>
                  <a:pt x="19387" y="13139"/>
                  <a:pt x="19397" y="13192"/>
                  <a:pt x="19372" y="13246"/>
                </a:cubicBezTo>
                <a:cubicBezTo>
                  <a:pt x="19348" y="13298"/>
                  <a:pt x="19340" y="13337"/>
                  <a:pt x="19397" y="13370"/>
                </a:cubicBezTo>
                <a:cubicBezTo>
                  <a:pt x="19472" y="13413"/>
                  <a:pt x="19572" y="13413"/>
                  <a:pt x="19645" y="13444"/>
                </a:cubicBezTo>
                <a:cubicBezTo>
                  <a:pt x="19689" y="13463"/>
                  <a:pt x="19758" y="13484"/>
                  <a:pt x="19769" y="135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13720" y="5099040"/>
            <a:ext cx="295200" cy="258840"/>
          </a:xfrm>
          <a:custGeom>
            <a:avLst/>
            <a:gdLst/>
            <a:ahLst/>
            <a:rect l="l" t="t" r="r" b="b"/>
            <a:pathLst>
              <a:path w="820" h="721">
                <a:moveTo>
                  <a:pt x="18926" y="14436"/>
                </a:moveTo>
                <a:cubicBezTo>
                  <a:pt x="18973" y="14436"/>
                  <a:pt x="19014" y="14437"/>
                  <a:pt x="19050" y="14461"/>
                </a:cubicBezTo>
                <a:cubicBezTo>
                  <a:pt x="19090" y="14487"/>
                  <a:pt x="19100" y="14486"/>
                  <a:pt x="19149" y="14486"/>
                </a:cubicBezTo>
                <a:cubicBezTo>
                  <a:pt x="19194" y="14486"/>
                  <a:pt x="19226" y="14511"/>
                  <a:pt x="19273" y="14511"/>
                </a:cubicBezTo>
              </a:path>
              <a:path w="820" h="721">
                <a:moveTo>
                  <a:pt x="19496" y="14188"/>
                </a:moveTo>
                <a:cubicBezTo>
                  <a:pt x="19472" y="14188"/>
                  <a:pt x="19464" y="14188"/>
                  <a:pt x="19472" y="14163"/>
                </a:cubicBezTo>
                <a:cubicBezTo>
                  <a:pt x="19525" y="14163"/>
                  <a:pt x="19573" y="14169"/>
                  <a:pt x="19621" y="14188"/>
                </a:cubicBezTo>
                <a:cubicBezTo>
                  <a:pt x="19687" y="14215"/>
                  <a:pt x="19724" y="14270"/>
                  <a:pt x="19745" y="14337"/>
                </a:cubicBezTo>
                <a:cubicBezTo>
                  <a:pt x="19769" y="14413"/>
                  <a:pt x="19722" y="14442"/>
                  <a:pt x="19695" y="14486"/>
                </a:cubicBezTo>
                <a:cubicBezTo>
                  <a:pt x="19681" y="14509"/>
                  <a:pt x="19615" y="14533"/>
                  <a:pt x="19571" y="14511"/>
                </a:cubicBezTo>
                <a:cubicBezTo>
                  <a:pt x="19544" y="14498"/>
                  <a:pt x="19447" y="14486"/>
                  <a:pt x="19496" y="14486"/>
                </a:cubicBezTo>
                <a:cubicBezTo>
                  <a:pt x="19578" y="14486"/>
                  <a:pt x="19537" y="14513"/>
                  <a:pt x="19596" y="14560"/>
                </a:cubicBezTo>
                <a:cubicBezTo>
                  <a:pt x="19656" y="14607"/>
                  <a:pt x="19688" y="14631"/>
                  <a:pt x="19695" y="14709"/>
                </a:cubicBezTo>
                <a:cubicBezTo>
                  <a:pt x="19699" y="14753"/>
                  <a:pt x="19648" y="14803"/>
                  <a:pt x="19621" y="14833"/>
                </a:cubicBezTo>
                <a:cubicBezTo>
                  <a:pt x="19586" y="14871"/>
                  <a:pt x="19499" y="14880"/>
                  <a:pt x="19447" y="14883"/>
                </a:cubicBezTo>
                <a:cubicBezTo>
                  <a:pt x="19377" y="14887"/>
                  <a:pt x="19331" y="14847"/>
                  <a:pt x="19273" y="148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48640" y="5607000"/>
            <a:ext cx="349200" cy="277920"/>
          </a:xfrm>
          <a:custGeom>
            <a:avLst/>
            <a:gdLst/>
            <a:ahLst/>
            <a:rect l="l" t="t" r="r" b="b"/>
            <a:pathLst>
              <a:path w="969" h="770">
                <a:moveTo>
                  <a:pt x="19075" y="15900"/>
                </a:moveTo>
                <a:cubicBezTo>
                  <a:pt x="19054" y="15893"/>
                  <a:pt x="19007" y="15875"/>
                  <a:pt x="19050" y="15875"/>
                </a:cubicBezTo>
                <a:cubicBezTo>
                  <a:pt x="19088" y="15875"/>
                  <a:pt x="19081" y="15910"/>
                  <a:pt x="19124" y="15925"/>
                </a:cubicBezTo>
                <a:cubicBezTo>
                  <a:pt x="19165" y="15939"/>
                  <a:pt x="19230" y="15966"/>
                  <a:pt x="19273" y="15974"/>
                </a:cubicBezTo>
                <a:cubicBezTo>
                  <a:pt x="19320" y="15982"/>
                  <a:pt x="19374" y="15974"/>
                  <a:pt x="19422" y="15974"/>
                </a:cubicBezTo>
              </a:path>
              <a:path w="969" h="770">
                <a:moveTo>
                  <a:pt x="19645" y="15602"/>
                </a:moveTo>
                <a:cubicBezTo>
                  <a:pt x="19653" y="15594"/>
                  <a:pt x="19662" y="15585"/>
                  <a:pt x="19670" y="15577"/>
                </a:cubicBezTo>
                <a:cubicBezTo>
                  <a:pt x="19670" y="15639"/>
                  <a:pt x="19641" y="15697"/>
                  <a:pt x="19621" y="15751"/>
                </a:cubicBezTo>
                <a:cubicBezTo>
                  <a:pt x="19606" y="15791"/>
                  <a:pt x="19578" y="15835"/>
                  <a:pt x="19571" y="15850"/>
                </a:cubicBezTo>
                <a:cubicBezTo>
                  <a:pt x="19571" y="15858"/>
                  <a:pt x="19571" y="15867"/>
                  <a:pt x="19571" y="15875"/>
                </a:cubicBezTo>
                <a:cubicBezTo>
                  <a:pt x="19610" y="15885"/>
                  <a:pt x="19626" y="15900"/>
                  <a:pt x="19670" y="15900"/>
                </a:cubicBezTo>
                <a:cubicBezTo>
                  <a:pt x="19736" y="15900"/>
                  <a:pt x="19742" y="15932"/>
                  <a:pt x="19794" y="15949"/>
                </a:cubicBezTo>
                <a:cubicBezTo>
                  <a:pt x="19853" y="15968"/>
                  <a:pt x="19919" y="15952"/>
                  <a:pt x="19943" y="15900"/>
                </a:cubicBezTo>
                <a:cubicBezTo>
                  <a:pt x="19963" y="15856"/>
                  <a:pt x="19951" y="15792"/>
                  <a:pt x="19968" y="15751"/>
                </a:cubicBezTo>
                <a:cubicBezTo>
                  <a:pt x="19970" y="15745"/>
                  <a:pt x="20017" y="15644"/>
                  <a:pt x="19993" y="15701"/>
                </a:cubicBezTo>
                <a:cubicBezTo>
                  <a:pt x="19954" y="15795"/>
                  <a:pt x="19957" y="15900"/>
                  <a:pt x="19918" y="15999"/>
                </a:cubicBezTo>
                <a:cubicBezTo>
                  <a:pt x="19895" y="16057"/>
                  <a:pt x="19859" y="16087"/>
                  <a:pt x="19844" y="16148"/>
                </a:cubicBezTo>
                <a:cubicBezTo>
                  <a:pt x="19832" y="16195"/>
                  <a:pt x="19875" y="16318"/>
                  <a:pt x="19819" y="16346"/>
                </a:cubicBezTo>
                <a:cubicBezTo>
                  <a:pt x="19811" y="16346"/>
                  <a:pt x="19802" y="16346"/>
                  <a:pt x="19794" y="163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13720" y="6107040"/>
            <a:ext cx="411120" cy="376200"/>
          </a:xfrm>
          <a:custGeom>
            <a:avLst/>
            <a:gdLst/>
            <a:ahLst/>
            <a:rect l="l" t="t" r="r" b="b"/>
            <a:pathLst>
              <a:path w="1142" h="1043">
                <a:moveTo>
                  <a:pt x="19000" y="17264"/>
                </a:moveTo>
                <a:cubicBezTo>
                  <a:pt x="18965" y="17291"/>
                  <a:pt x="18970" y="17289"/>
                  <a:pt x="18926" y="17289"/>
                </a:cubicBezTo>
                <a:cubicBezTo>
                  <a:pt x="18961" y="17298"/>
                  <a:pt x="18992" y="17331"/>
                  <a:pt x="19025" y="17338"/>
                </a:cubicBezTo>
                <a:cubicBezTo>
                  <a:pt x="19093" y="17352"/>
                  <a:pt x="19156" y="17372"/>
                  <a:pt x="19224" y="17388"/>
                </a:cubicBezTo>
                <a:cubicBezTo>
                  <a:pt x="19312" y="17409"/>
                  <a:pt x="19430" y="17388"/>
                  <a:pt x="19521" y="17388"/>
                </a:cubicBezTo>
              </a:path>
              <a:path w="1142" h="1043">
                <a:moveTo>
                  <a:pt x="19968" y="17016"/>
                </a:moveTo>
                <a:cubicBezTo>
                  <a:pt x="19874" y="17006"/>
                  <a:pt x="19790" y="16974"/>
                  <a:pt x="19695" y="16966"/>
                </a:cubicBezTo>
                <a:cubicBezTo>
                  <a:pt x="19656" y="17082"/>
                  <a:pt x="19635" y="17193"/>
                  <a:pt x="19621" y="17314"/>
                </a:cubicBezTo>
                <a:cubicBezTo>
                  <a:pt x="19621" y="17358"/>
                  <a:pt x="19624" y="17372"/>
                  <a:pt x="19596" y="17388"/>
                </a:cubicBezTo>
                <a:cubicBezTo>
                  <a:pt x="19712" y="17380"/>
                  <a:pt x="19801" y="17367"/>
                  <a:pt x="19918" y="17388"/>
                </a:cubicBezTo>
                <a:cubicBezTo>
                  <a:pt x="20007" y="17410"/>
                  <a:pt x="20032" y="17411"/>
                  <a:pt x="20067" y="17462"/>
                </a:cubicBezTo>
                <a:cubicBezTo>
                  <a:pt x="20005" y="17757"/>
                  <a:pt x="19757" y="17804"/>
                  <a:pt x="19496" y="17909"/>
                </a:cubicBezTo>
                <a:cubicBezTo>
                  <a:pt x="19347" y="17965"/>
                  <a:pt x="19327" y="17966"/>
                  <a:pt x="19248" y="180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143680" y="2357280"/>
            <a:ext cx="115560" cy="536760"/>
          </a:xfrm>
          <a:custGeom>
            <a:avLst/>
            <a:gdLst/>
            <a:ahLst/>
            <a:rect l="l" t="t" r="r" b="b"/>
            <a:pathLst>
              <a:path w="323" h="1490">
                <a:moveTo>
                  <a:pt x="14511" y="6648"/>
                </a:moveTo>
                <a:cubicBezTo>
                  <a:pt x="14523" y="6584"/>
                  <a:pt x="14502" y="6581"/>
                  <a:pt x="14560" y="6548"/>
                </a:cubicBezTo>
                <a:cubicBezTo>
                  <a:pt x="14568" y="6548"/>
                  <a:pt x="14577" y="6548"/>
                  <a:pt x="14585" y="6548"/>
                </a:cubicBezTo>
                <a:cubicBezTo>
                  <a:pt x="14595" y="6575"/>
                  <a:pt x="14610" y="6635"/>
                  <a:pt x="14610" y="6697"/>
                </a:cubicBezTo>
                <a:cubicBezTo>
                  <a:pt x="14610" y="6751"/>
                  <a:pt x="14598" y="6780"/>
                  <a:pt x="14560" y="6821"/>
                </a:cubicBezTo>
                <a:cubicBezTo>
                  <a:pt x="14502" y="6884"/>
                  <a:pt x="14468" y="6942"/>
                  <a:pt x="14412" y="6995"/>
                </a:cubicBezTo>
                <a:cubicBezTo>
                  <a:pt x="14314" y="7088"/>
                  <a:pt x="14332" y="7194"/>
                  <a:pt x="14312" y="7317"/>
                </a:cubicBezTo>
                <a:cubicBezTo>
                  <a:pt x="14274" y="7549"/>
                  <a:pt x="14354" y="7756"/>
                  <a:pt x="14387" y="7987"/>
                </a:cubicBezTo>
                <a:cubicBezTo>
                  <a:pt x="14387" y="8004"/>
                  <a:pt x="14387" y="8020"/>
                  <a:pt x="14387" y="8037"/>
                </a:cubicBezTo>
                <a:cubicBezTo>
                  <a:pt x="14419" y="8018"/>
                  <a:pt x="14418" y="8027"/>
                  <a:pt x="14461" y="8012"/>
                </a:cubicBezTo>
                <a:cubicBezTo>
                  <a:pt x="14478" y="8004"/>
                  <a:pt x="14494" y="7995"/>
                  <a:pt x="14511" y="79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089840" y="1009800"/>
            <a:ext cx="1312920" cy="160200"/>
          </a:xfrm>
          <a:custGeom>
            <a:avLst/>
            <a:gdLst/>
            <a:ahLst/>
            <a:rect l="l" t="t" r="r" b="b"/>
            <a:pathLst>
              <a:path w="3647" h="447">
                <a:moveTo>
                  <a:pt x="19968" y="3101"/>
                </a:moveTo>
                <a:cubicBezTo>
                  <a:pt x="19914" y="3036"/>
                  <a:pt x="19877" y="2959"/>
                  <a:pt x="19794" y="2927"/>
                </a:cubicBezTo>
                <a:cubicBezTo>
                  <a:pt x="19742" y="2927"/>
                  <a:pt x="19715" y="2946"/>
                  <a:pt x="19695" y="3001"/>
                </a:cubicBezTo>
                <a:cubicBezTo>
                  <a:pt x="19748" y="3135"/>
                  <a:pt x="19905" y="3300"/>
                  <a:pt x="20017" y="3076"/>
                </a:cubicBezTo>
                <a:cubicBezTo>
                  <a:pt x="20132" y="2847"/>
                  <a:pt x="19859" y="2898"/>
                  <a:pt x="19769" y="2952"/>
                </a:cubicBezTo>
                <a:cubicBezTo>
                  <a:pt x="19777" y="3082"/>
                  <a:pt x="19967" y="3302"/>
                  <a:pt x="20042" y="3051"/>
                </a:cubicBezTo>
                <a:cubicBezTo>
                  <a:pt x="20034" y="3018"/>
                  <a:pt x="20025" y="2985"/>
                  <a:pt x="20017" y="2952"/>
                </a:cubicBezTo>
                <a:cubicBezTo>
                  <a:pt x="19924" y="2928"/>
                  <a:pt x="19726" y="3040"/>
                  <a:pt x="19869" y="3175"/>
                </a:cubicBezTo>
                <a:cubicBezTo>
                  <a:pt x="19894" y="3175"/>
                  <a:pt x="19918" y="3175"/>
                  <a:pt x="19943" y="3175"/>
                </a:cubicBezTo>
              </a:path>
              <a:path w="3647" h="447">
                <a:moveTo>
                  <a:pt x="23292" y="3026"/>
                </a:moveTo>
                <a:cubicBezTo>
                  <a:pt x="23281" y="2974"/>
                  <a:pt x="23249" y="2917"/>
                  <a:pt x="23192" y="2902"/>
                </a:cubicBezTo>
                <a:cubicBezTo>
                  <a:pt x="23092" y="2875"/>
                  <a:pt x="23035" y="3048"/>
                  <a:pt x="23168" y="3076"/>
                </a:cubicBezTo>
                <a:cubicBezTo>
                  <a:pt x="23317" y="3107"/>
                  <a:pt x="23428" y="2842"/>
                  <a:pt x="23316" y="2803"/>
                </a:cubicBezTo>
                <a:cubicBezTo>
                  <a:pt x="23172" y="2753"/>
                  <a:pt x="23107" y="2969"/>
                  <a:pt x="23068" y="3051"/>
                </a:cubicBezTo>
                <a:cubicBezTo>
                  <a:pt x="23176" y="3147"/>
                  <a:pt x="23392" y="3122"/>
                  <a:pt x="23341" y="2902"/>
                </a:cubicBezTo>
                <a:cubicBezTo>
                  <a:pt x="23291" y="2687"/>
                  <a:pt x="23095" y="2972"/>
                  <a:pt x="23068" y="3001"/>
                </a:cubicBezTo>
                <a:cubicBezTo>
                  <a:pt x="23115" y="3134"/>
                  <a:pt x="23305" y="3293"/>
                  <a:pt x="23341" y="3026"/>
                </a:cubicBezTo>
                <a:cubicBezTo>
                  <a:pt x="23333" y="2976"/>
                  <a:pt x="23324" y="2927"/>
                  <a:pt x="23316" y="2877"/>
                </a:cubicBezTo>
                <a:cubicBezTo>
                  <a:pt x="23247" y="2882"/>
                  <a:pt x="22934" y="3074"/>
                  <a:pt x="23143" y="3125"/>
                </a:cubicBezTo>
                <a:cubicBezTo>
                  <a:pt x="23291" y="3161"/>
                  <a:pt x="23395" y="2856"/>
                  <a:pt x="23242" y="2952"/>
                </a:cubicBezTo>
                <a:cubicBezTo>
                  <a:pt x="23174" y="3020"/>
                  <a:pt x="23147" y="3036"/>
                  <a:pt x="23192" y="3101"/>
                </a:cubicBezTo>
              </a:path>
              <a:path w="3647" h="447">
                <a:moveTo>
                  <a:pt x="19819" y="2977"/>
                </a:moveTo>
                <a:cubicBezTo>
                  <a:pt x="19952" y="2969"/>
                  <a:pt x="20057" y="2964"/>
                  <a:pt x="20191" y="2977"/>
                </a:cubicBezTo>
                <a:cubicBezTo>
                  <a:pt x="20533" y="3009"/>
                  <a:pt x="20868" y="3080"/>
                  <a:pt x="21208" y="3125"/>
                </a:cubicBezTo>
                <a:cubicBezTo>
                  <a:pt x="21555" y="3171"/>
                  <a:pt x="21926" y="3241"/>
                  <a:pt x="22275" y="3249"/>
                </a:cubicBezTo>
                <a:cubicBezTo>
                  <a:pt x="22412" y="3252"/>
                  <a:pt x="22539" y="3239"/>
                  <a:pt x="22671" y="3225"/>
                </a:cubicBezTo>
                <a:cubicBezTo>
                  <a:pt x="22755" y="3216"/>
                  <a:pt x="22838" y="3196"/>
                  <a:pt x="22920" y="3175"/>
                </a:cubicBezTo>
                <a:cubicBezTo>
                  <a:pt x="22966" y="3163"/>
                  <a:pt x="22998" y="3161"/>
                  <a:pt x="23044" y="3150"/>
                </a:cubicBezTo>
                <a:cubicBezTo>
                  <a:pt x="22853" y="3141"/>
                  <a:pt x="22665" y="3117"/>
                  <a:pt x="22473" y="3101"/>
                </a:cubicBezTo>
                <a:cubicBezTo>
                  <a:pt x="21954" y="3057"/>
                  <a:pt x="21430" y="2980"/>
                  <a:pt x="20910" y="2952"/>
                </a:cubicBezTo>
                <a:cubicBezTo>
                  <a:pt x="20678" y="2939"/>
                  <a:pt x="20421" y="2893"/>
                  <a:pt x="20191" y="2902"/>
                </a:cubicBezTo>
                <a:cubicBezTo>
                  <a:pt x="20058" y="2907"/>
                  <a:pt x="19927" y="2947"/>
                  <a:pt x="19794" y="2952"/>
                </a:cubicBezTo>
                <a:cubicBezTo>
                  <a:pt x="19761" y="2953"/>
                  <a:pt x="19778" y="2952"/>
                  <a:pt x="19745" y="2952"/>
                </a:cubicBezTo>
                <a:cubicBezTo>
                  <a:pt x="20016" y="2921"/>
                  <a:pt x="20290" y="2886"/>
                  <a:pt x="20563" y="2877"/>
                </a:cubicBezTo>
                <a:cubicBezTo>
                  <a:pt x="20939" y="2865"/>
                  <a:pt x="21305" y="2863"/>
                  <a:pt x="21679" y="2877"/>
                </a:cubicBezTo>
                <a:cubicBezTo>
                  <a:pt x="21987" y="2888"/>
                  <a:pt x="22292" y="2878"/>
                  <a:pt x="22597" y="2902"/>
                </a:cubicBezTo>
                <a:cubicBezTo>
                  <a:pt x="22688" y="2909"/>
                  <a:pt x="22767" y="2907"/>
                  <a:pt x="22845" y="2927"/>
                </a:cubicBezTo>
                <a:cubicBezTo>
                  <a:pt x="22914" y="2944"/>
                  <a:pt x="23009" y="2967"/>
                  <a:pt x="23068" y="2977"/>
                </a:cubicBezTo>
                <a:cubicBezTo>
                  <a:pt x="23112" y="2984"/>
                  <a:pt x="23042" y="2973"/>
                  <a:pt x="23118" y="2977"/>
                </a:cubicBezTo>
                <a:cubicBezTo>
                  <a:pt x="23179" y="2980"/>
                  <a:pt x="23234" y="2964"/>
                  <a:pt x="23292" y="29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 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02:10:38Z</dcterms:created>
  <dc:creator>demcgra</dc:creator>
  <dc:description/>
  <dc:language>en-US</dc:language>
  <cp:lastModifiedBy>demcgra</cp:lastModifiedBy>
  <dcterms:modified xsi:type="dcterms:W3CDTF">2012-04-12T19:34:25Z</dcterms:modified>
  <cp:revision>10</cp:revision>
  <dc:subject/>
  <dc:title>Warm-up:</dc:title>
</cp:coreProperties>
</file>